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1E86-4CAC-427C-A219-94E2A12E505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3878280" y="-49320"/>
            <a:ext cx="2990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78280" y="8653320"/>
            <a:ext cx="2990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0" bIns="0" anchor="b">
            <a:noAutofit/>
          </a:bodyPr>
          <a:p>
            <a:pPr algn="r"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-12600" y="8653320"/>
            <a:ext cx="2990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-12600" y="-49320"/>
            <a:ext cx="2990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2960" y="4349520"/>
            <a:ext cx="503064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297-0BB5-4B34-A534-253C8DC7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07F-364F-4195-AFF3-8F7C809E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4635-634B-49DE-A00E-DF2340AF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B01A-7C00-4AF6-BF7C-48D037EE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7C33-7E30-44AA-9489-0B506C3B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AF92-80EE-4746-BCE5-92004F86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94C5-EF72-4BC0-ACA2-C9600C57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A7E6-1F13-4BE5-B92E-71AD4132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C48A-C6BC-4044-9A41-823C2E91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88CD-6191-4849-8105-50F5AA97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DFC3-3F8D-48D0-BA3B-611D64E7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EDFB-0825-4D4F-80CC-1167BD2E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DE44-FED4-44DB-9639-B18A07AF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2000-EF7B-4C45-ADFB-580D689C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49B7-0F9F-4642-A33B-66A07127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75D9-8291-4091-83D9-BD8D0DB3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6BBB-F0D2-4A74-A643-7A7187A0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6BF5-9C03-40BC-92B3-9D3F4639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797D-F8A2-4850-94FB-C765B74E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BFD-F698-4F59-8EFA-7AF9AE14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CA90-A88D-4644-88EB-EC4A79F6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D99-A2F1-489F-A3EA-DE488650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DAEF-8C9E-4DB5-9948-A25944FA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03BF-F900-4B5C-A80B-48140E1C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797440"/>
            <a:ext cx="9167760" cy="1076400"/>
            <a:chOff x="0" y="5797440"/>
            <a:chExt cx="9167760" cy="1076400"/>
          </a:xfrm>
        </p:grpSpPr>
        <p:sp>
          <p:nvSpPr>
            <p:cNvPr id="1" name=""/>
            <p:cNvSpPr/>
            <p:nvPr/>
          </p:nvSpPr>
          <p:spPr>
            <a:xfrm>
              <a:off x="0" y="5835600"/>
              <a:ext cx="9166320" cy="1020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5797440"/>
              <a:ext cx="9167760" cy="1076400"/>
              <a:chOff x="0" y="5797440"/>
              <a:chExt cx="9167760" cy="107640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8904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395360" y="5797440"/>
                <a:ext cx="920880" cy="1076400"/>
              </a:xfrm>
              <a:custGeom>
                <a:avLst/>
                <a:gdLst/>
                <a:ahLst/>
                <a:rect l="l" t="t" r="r" b="b"/>
                <a:pathLst>
                  <a:path w="580" h="678">
                    <a:moveTo>
                      <a:pt x="0" y="677"/>
                    </a:moveTo>
                    <a:lnTo>
                      <a:pt x="482" y="0"/>
                    </a:lnTo>
                    <a:lnTo>
                      <a:pt x="579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10348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81160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517920" y="5797440"/>
                <a:ext cx="920880" cy="1076400"/>
              </a:xfrm>
              <a:custGeom>
                <a:avLst/>
                <a:gdLst/>
                <a:ahLst/>
                <a:rect l="l" t="t" r="r" b="b"/>
                <a:pathLst>
                  <a:path w="580" h="678">
                    <a:moveTo>
                      <a:pt x="0" y="677"/>
                    </a:moveTo>
                    <a:lnTo>
                      <a:pt x="482" y="0"/>
                    </a:lnTo>
                    <a:lnTo>
                      <a:pt x="579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20696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91508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4192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67320" y="5797440"/>
                <a:ext cx="91944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11360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84080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593200" y="6072120"/>
                <a:ext cx="574560" cy="801720"/>
              </a:xfrm>
              <a:custGeom>
                <a:avLst/>
                <a:gdLst/>
                <a:ahLst/>
                <a:rect l="l" t="t" r="r" b="b"/>
                <a:pathLst>
                  <a:path w="362" h="505">
                    <a:moveTo>
                      <a:pt x="0" y="504"/>
                    </a:moveTo>
                    <a:lnTo>
                      <a:pt x="361" y="0"/>
                    </a:lnTo>
                    <a:lnTo>
                      <a:pt x="361" y="122"/>
                    </a:lnTo>
                    <a:lnTo>
                      <a:pt x="96" y="504"/>
                    </a:lnTo>
                    <a:lnTo>
                      <a:pt x="0" y="50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A306-961C-4E6C-A537-A56687664A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760840"/>
            <a:ext cx="9151920" cy="4113000"/>
            <a:chOff x="0" y="2760840"/>
            <a:chExt cx="9151920" cy="4113000"/>
          </a:xfrm>
        </p:grpSpPr>
        <p:grpSp>
          <p:nvGrpSpPr>
            <p:cNvPr id="58" name=""/>
            <p:cNvGrpSpPr/>
            <p:nvPr/>
          </p:nvGrpSpPr>
          <p:grpSpPr>
            <a:xfrm>
              <a:off x="0" y="5797440"/>
              <a:ext cx="9151920" cy="1076400"/>
              <a:chOff x="0" y="5797440"/>
              <a:chExt cx="9151920" cy="1076400"/>
            </a:xfrm>
          </p:grpSpPr>
          <p:sp>
            <p:nvSpPr>
              <p:cNvPr id="59" name=""/>
              <p:cNvSpPr/>
              <p:nvPr/>
            </p:nvSpPr>
            <p:spPr>
              <a:xfrm>
                <a:off x="0" y="5835600"/>
                <a:ext cx="9150480" cy="10209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0" y="5797440"/>
                <a:ext cx="9151920" cy="1076400"/>
                <a:chOff x="0" y="5797440"/>
                <a:chExt cx="9151920" cy="10764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687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39392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100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80656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513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20048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90536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5630760" y="5797440"/>
                  <a:ext cx="91944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635652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0100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82640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577360" y="6072120"/>
                  <a:ext cx="574560" cy="801720"/>
                </a:xfrm>
                <a:custGeom>
                  <a:avLst/>
                  <a:gdLst/>
                  <a:ahLst/>
                  <a:rect l="l" t="t" r="r" b="b"/>
                  <a:pathLst>
                    <a:path w="362" h="505">
                      <a:moveTo>
                        <a:pt x="0" y="504"/>
                      </a:moveTo>
                      <a:lnTo>
                        <a:pt x="361" y="0"/>
                      </a:lnTo>
                      <a:lnTo>
                        <a:pt x="361" y="122"/>
                      </a:lnTo>
                      <a:lnTo>
                        <a:pt x="96" y="504"/>
                      </a:lnTo>
                      <a:lnTo>
                        <a:pt x="0" y="50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" name=""/>
            <p:cNvSpPr/>
            <p:nvPr/>
          </p:nvSpPr>
          <p:spPr>
            <a:xfrm>
              <a:off x="0" y="2760840"/>
              <a:ext cx="819000" cy="1449360"/>
            </a:xfrm>
            <a:custGeom>
              <a:avLst/>
              <a:gdLst/>
              <a:ahLst/>
              <a:rect l="l" t="t" r="r" b="b"/>
              <a:pathLst>
                <a:path w="516" h="913">
                  <a:moveTo>
                    <a:pt x="0" y="0"/>
                  </a:moveTo>
                  <a:lnTo>
                    <a:pt x="515" y="0"/>
                  </a:ln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9179-C629-4E7F-B9DD-84122F963F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tegridad de Bitácoras usando Secretos Compartid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Gómez R, Grego A, Lira 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TESM-C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pto Ciencias Comput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http://webdia.toto.cachafas.mx/dia/ac/rogom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3600" y="282600"/>
            <a:ext cx="777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9933"/>
                </a:solidFill>
                <a:latin typeface="Times New Roman"/>
              </a:rPr>
              <a:t>Ciclo de Conferencias y Seminarios e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9933"/>
                </a:solidFill>
                <a:latin typeface="Times New Roman"/>
              </a:rPr>
              <a:t>Seguridad Informát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¿Por qué son importante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on invaluables para la recuperación del sistema, después de un incidente de segur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ueden indicar la forma en que entró un atacante, e incluso dar pistas para identificar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 veces pueden presentarse como evidencia en un jucio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Ejemplo bitacora: logcheck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89880" y="1143000"/>
            <a:ext cx="669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/etc/cron.weekly/2webalizerftp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Webalizer V2.01-06 (Linux 2.2.19-7.0.8) Englis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Using logfile /var/log/xferlog (ft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NS Lookup (15): Warning: Truncating oversized request field [3342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Warning: Truncating oversized request field [3363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Warning: Truncating oversized request field [3364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Warning: Truncating oversized request field [3365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Warning: Truncating oversized request field [3366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Warning: Truncating oversized request field [3367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Warning: Truncating oversized request field [3368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111 addresses in 23.29 seconds, 4/s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Using DNS cache file cached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reating output in /usr/local/apache/htdocs/estadisticas/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ading history file... webalizer.hi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Generating report for February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aving history information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10815 records (315 ignored) in 3.32 seconds, 3257/s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Ejemplo bitácora portsentr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19000" y="1143000"/>
            <a:ext cx="69015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ctive System Attack Ale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=-=-=-=-=-=-=-=-=-=-=-=-=-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Jul 23 08:59:42 asterix portsentry[575]: attackalert: Connect fr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host: dia25021.toto.cachafas.mx/184.241.25.21 to UDP port: 16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Jul 23 08:59:42 asterix portsentry[575]: attackalert: Ho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184.241.25.21 is already blocked. Igno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Jul 23 12:07:24 asterix portsentry[575]: attackalert: Connect fr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host: eye.alguien.cachafas.mx/122.254.7.182 to UDP port: 16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Jul 23 12:07:24 asterix portsentry[575]: attackalert: Ho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122.254.7.182 is already blocked. Igno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Jul 23 12:07:26 asterix portsentry[575]: attackalert: Connect fr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host: eye.alguien.cachafas.mx/122.254.7.182 to UDP port: 16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Jul 23 12:07:26 asterix portsentry[575]: attackalert: Ho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122.254.7.182 is already blocked. Igno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Jul 23 12:07:27 asterix portsentry[575]: attackalert: Connect fr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host: eye.alguien.cachafas.mx/122.254.7.182 to UDP port: 16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imes New Roman"/>
              </a:rPr>
              <a:t>Otro ejemplo: LogWatc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03640" y="1143000"/>
            <a:ext cx="8073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**Unmatched Entries*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oto.dyndns.org (pmroch4-23.rconnect.com[209.163.10.23]) - FTP se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open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oto.dyndns.org (pmroch4-23.rconnect.com[209.163.10.23]) - FTP se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los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oto.dyndns.org (du-133-221-104-88.prodigy.net.mx[133.221.104.88]) - F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ession open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oto.dyndns.org (du-133-221-104-88.prodigy.net.mx[133.221.104.88]) - F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ession open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oto.dyndns.org (du-133-221-104-88.prodigy.net.mx[133.221.104.88]) - F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ession clos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oto.dyndns.org (du-133-221-104-88.prodigy.net.mx[133.221.104.88]) - F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ession clos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oto.dyndns.org (200.206.238.177[200.206.238.177]) - FTP session open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oto.dyndns.org (200.206.238.177[200.206.238.177]) - FTP no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imeout, disconnec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imes New Roman"/>
              </a:rPr>
              <a:t>Un último ejemplo: snor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986760" y="1523880"/>
            <a:ext cx="7259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[**] IDS249/smtp-relay-denied [**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09/10-12:13:49.774333 184.235.168.50:25 -&gt; 184.241.75.146:245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CP TTL:237 TOS:0x0 ID:6164 IpLen:20 DgmLen:12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***AP*** Seq: 0x371DC6E6  Ack: 0x10CDB3D  Win: 0x8218  TcpLen: 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CP Options (3) =&gt; NOP NOP TS: 9281425 156264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[**] IDS249/smtp-relay-denied [**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09/10-12:16:04.704333 184.235.168.50:25 -&gt; 184.241.75.146:246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CP TTL:237 TOS:0x0 ID:40468 IpLen:20 DgmLen:12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***AP*** Seq: 0x3F2D3061  Ack: 0x10EF83B  Win: 0x8218  TcpLen: 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CP Options (3) =&gt; NOP NOP TS: 9310686 157498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[**] IDS28/probe-nmap_tcp_ping [**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09/10-12:44:02.724333 200.23.241.13:80 -&gt; 184.241.91.18: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¿Qué hacer con ella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s bitácoras del sistema reflejan lo que ocurre en el mism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 nada sirve tenerlas si no son leíd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hí es donde pueden descubrirse ataques no exitosos perpetrados contra un sist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 importante revisarlas periódica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Tarea tediosa, pero es posible auxiliarse a través de herramien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nalizadores bitácor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ndependientes de platafor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Bazaar Analy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3D UWweb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crue Ins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http-analy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urfRe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WebLog Manager P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awm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w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Otros analizado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net.Analysis P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Web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urfstats log analy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VBSt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Webtr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Intrusos y bitácor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trusos nov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no saben de su exist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trusos más concien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s bor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trusos “experto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liminan o cambian todo aquello que los incrim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El servidor de bitácor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Una forma de evitar que alguien borre las bitacoras es instalar un servidor que recolecte las bitacor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uede estar dentro o fuera del fire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i el firewall no lo permite tal vez se deben utilizar dos servid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be ser una computadora que no ofrezca ningún servicio a la red y que soporte cuentas de usua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nteced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s bitaco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os secretos compart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rabajos relacion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uestra propue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7315200" y="5029200"/>
            <a:ext cx="129528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15200" y="3581280"/>
            <a:ext cx="129528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4724280"/>
            <a:ext cx="0" cy="16765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4000" spc="-1" strike="noStrike">
                <a:solidFill>
                  <a:srgbClr val="ffff00"/>
                </a:solidFill>
                <a:latin typeface="Times New Roman"/>
              </a:rPr>
              <a:t>Un posible esquem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84440" y="5486400"/>
            <a:ext cx="2438280" cy="457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00280" y="3124080"/>
            <a:ext cx="2513160" cy="1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3652920" y="3886200"/>
            <a:ext cx="3046320" cy="14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3576600" y="3352680"/>
            <a:ext cx="2665440" cy="1800"/>
          </a:xfrm>
          <a:prstGeom prst="line">
            <a:avLst/>
          </a:prstGeom>
          <a:ln w="76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3423960" y="4267080"/>
            <a:ext cx="2894040" cy="18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4794120" y="2133720"/>
            <a:ext cx="1014480" cy="2679120"/>
            <a:chOff x="4794120" y="2133720"/>
            <a:chExt cx="1014480" cy="2679120"/>
          </a:xfrm>
        </p:grpSpPr>
        <p:pic>
          <p:nvPicPr>
            <p:cNvPr id="458" name="" descr=""/>
            <p:cNvPicPr/>
            <p:nvPr/>
          </p:nvPicPr>
          <p:blipFill>
            <a:blip r:embed="rId1"/>
            <a:stretch/>
          </p:blipFill>
          <p:spPr>
            <a:xfrm>
              <a:off x="4794120" y="2941560"/>
              <a:ext cx="1014480" cy="18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5099040" y="2133720"/>
              <a:ext cx="392040" cy="11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74760" y="2590920"/>
            <a:ext cx="3263760" cy="2644200"/>
            <a:chOff x="374760" y="2590920"/>
            <a:chExt cx="3263760" cy="2644200"/>
          </a:xfrm>
        </p:grpSpPr>
        <p:sp>
          <p:nvSpPr>
            <p:cNvPr id="461" name=""/>
            <p:cNvSpPr/>
            <p:nvPr/>
          </p:nvSpPr>
          <p:spPr>
            <a:xfrm>
              <a:off x="1388880" y="2671560"/>
              <a:ext cx="795600" cy="880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44800" y="2590920"/>
              <a:ext cx="647640" cy="71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25840" y="3311280"/>
              <a:ext cx="1012680" cy="1123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36560" y="3794040"/>
              <a:ext cx="1158840" cy="128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36760" y="3954240"/>
              <a:ext cx="862200" cy="9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7840" y="4037040"/>
              <a:ext cx="647640" cy="713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4760" y="3470040"/>
              <a:ext cx="647640" cy="722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5280" y="2832120"/>
              <a:ext cx="1011240" cy="1120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36840" y="4111560"/>
              <a:ext cx="1014120" cy="1123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70200" y="2913120"/>
              <a:ext cx="795240" cy="878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52760" y="2590920"/>
              <a:ext cx="722160" cy="79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6480" y="2797200"/>
              <a:ext cx="2819520" cy="2094840"/>
            </a:xfrm>
            <a:custGeom>
              <a:avLst/>
              <a:gdLst/>
              <a:ahLst/>
              <a:rect l="l" t="t" r="r" b="b"/>
              <a:pathLst>
                <a:path w="1776" h="1320">
                  <a:moveTo>
                    <a:pt x="547" y="133"/>
                  </a:moveTo>
                  <a:lnTo>
                    <a:pt x="621" y="38"/>
                  </a:lnTo>
                  <a:lnTo>
                    <a:pt x="953" y="44"/>
                  </a:lnTo>
                  <a:lnTo>
                    <a:pt x="1188" y="0"/>
                  </a:lnTo>
                  <a:lnTo>
                    <a:pt x="1484" y="158"/>
                  </a:lnTo>
                  <a:lnTo>
                    <a:pt x="1632" y="114"/>
                  </a:lnTo>
                  <a:lnTo>
                    <a:pt x="1712" y="133"/>
                  </a:lnTo>
                  <a:lnTo>
                    <a:pt x="1729" y="524"/>
                  </a:lnTo>
                  <a:lnTo>
                    <a:pt x="1775" y="587"/>
                  </a:lnTo>
                  <a:lnTo>
                    <a:pt x="1638" y="890"/>
                  </a:lnTo>
                  <a:lnTo>
                    <a:pt x="1490" y="683"/>
                  </a:lnTo>
                  <a:lnTo>
                    <a:pt x="1450" y="789"/>
                  </a:lnTo>
                  <a:lnTo>
                    <a:pt x="1239" y="1204"/>
                  </a:lnTo>
                  <a:lnTo>
                    <a:pt x="536" y="1319"/>
                  </a:lnTo>
                  <a:lnTo>
                    <a:pt x="172" y="1237"/>
                  </a:lnTo>
                  <a:lnTo>
                    <a:pt x="56" y="979"/>
                  </a:lnTo>
                  <a:lnTo>
                    <a:pt x="56" y="714"/>
                  </a:lnTo>
                  <a:lnTo>
                    <a:pt x="0" y="492"/>
                  </a:lnTo>
                  <a:lnTo>
                    <a:pt x="547" y="1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370520" y="350532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15000" y="12952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ervidor WEB y 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622920" y="3124080"/>
            <a:ext cx="1022400" cy="960480"/>
            <a:chOff x="6622920" y="3124080"/>
            <a:chExt cx="1022400" cy="960480"/>
          </a:xfrm>
        </p:grpSpPr>
        <p:grpSp>
          <p:nvGrpSpPr>
            <p:cNvPr id="476" name=""/>
            <p:cNvGrpSpPr/>
            <p:nvPr/>
          </p:nvGrpSpPr>
          <p:grpSpPr>
            <a:xfrm>
              <a:off x="6645240" y="3147840"/>
              <a:ext cx="1000080" cy="936720"/>
              <a:chOff x="6645240" y="3147840"/>
              <a:chExt cx="1000080" cy="936720"/>
            </a:xfrm>
          </p:grpSpPr>
          <p:sp>
            <p:nvSpPr>
              <p:cNvPr id="477" name=""/>
              <p:cNvSpPr/>
              <p:nvPr/>
            </p:nvSpPr>
            <p:spPr>
              <a:xfrm>
                <a:off x="6670800" y="3641760"/>
                <a:ext cx="939600" cy="96840"/>
              </a:xfrm>
              <a:custGeom>
                <a:avLst/>
                <a:gdLst/>
                <a:ahLst/>
                <a:rect l="l" t="t" r="r" b="b"/>
                <a:pathLst>
                  <a:path w="592" h="61">
                    <a:moveTo>
                      <a:pt x="0" y="60"/>
                    </a:moveTo>
                    <a:lnTo>
                      <a:pt x="64" y="0"/>
                    </a:lnTo>
                    <a:lnTo>
                      <a:pt x="531" y="0"/>
                    </a:lnTo>
                    <a:lnTo>
                      <a:pt x="591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673680" y="3641760"/>
                <a:ext cx="943200" cy="96840"/>
              </a:xfrm>
              <a:custGeom>
                <a:avLst/>
                <a:gdLst/>
                <a:ahLst/>
                <a:rect l="l" t="t" r="r" b="b"/>
                <a:pathLst>
                  <a:path w="594" h="61">
                    <a:moveTo>
                      <a:pt x="0" y="60"/>
                    </a:moveTo>
                    <a:lnTo>
                      <a:pt x="62" y="0"/>
                    </a:lnTo>
                    <a:lnTo>
                      <a:pt x="533" y="0"/>
                    </a:lnTo>
                    <a:lnTo>
                      <a:pt x="593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810480" y="3147840"/>
                <a:ext cx="669960" cy="63720"/>
              </a:xfrm>
              <a:custGeom>
                <a:avLst/>
                <a:gdLst/>
                <a:ahLst/>
                <a:rect l="l" t="t" r="r" b="b"/>
                <a:pathLst>
                  <a:path w="422" h="40">
                    <a:moveTo>
                      <a:pt x="0" y="39"/>
                    </a:moveTo>
                    <a:lnTo>
                      <a:pt x="44" y="0"/>
                    </a:lnTo>
                    <a:lnTo>
                      <a:pt x="375" y="0"/>
                    </a:lnTo>
                    <a:lnTo>
                      <a:pt x="421" y="39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810480" y="3147840"/>
                <a:ext cx="669960" cy="63720"/>
              </a:xfrm>
              <a:custGeom>
                <a:avLst/>
                <a:gdLst/>
                <a:ahLst/>
                <a:rect l="l" t="t" r="r" b="b"/>
                <a:pathLst>
                  <a:path w="422" h="40">
                    <a:moveTo>
                      <a:pt x="0" y="39"/>
                    </a:moveTo>
                    <a:lnTo>
                      <a:pt x="44" y="0"/>
                    </a:lnTo>
                    <a:lnTo>
                      <a:pt x="375" y="0"/>
                    </a:lnTo>
                    <a:lnTo>
                      <a:pt x="421" y="39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824520" y="3224160"/>
                <a:ext cx="642960" cy="463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683400" y="3749400"/>
                <a:ext cx="922320" cy="187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881760" y="3286080"/>
                <a:ext cx="528840" cy="347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7322760" y="3811320"/>
                <a:ext cx="219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645240" y="3946320"/>
                <a:ext cx="1000080" cy="96840"/>
              </a:xfrm>
              <a:custGeom>
                <a:avLst/>
                <a:gdLst/>
                <a:ahLst/>
                <a:rect l="l" t="t" r="r" b="b"/>
                <a:pathLst>
                  <a:path w="630" h="61">
                    <a:moveTo>
                      <a:pt x="0" y="60"/>
                    </a:moveTo>
                    <a:lnTo>
                      <a:pt x="66" y="0"/>
                    </a:lnTo>
                    <a:lnTo>
                      <a:pt x="559" y="0"/>
                    </a:lnTo>
                    <a:lnTo>
                      <a:pt x="629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645240" y="3949560"/>
                <a:ext cx="1000080" cy="96840"/>
              </a:xfrm>
              <a:custGeom>
                <a:avLst/>
                <a:gdLst/>
                <a:ahLst/>
                <a:rect l="l" t="t" r="r" b="b"/>
                <a:pathLst>
                  <a:path w="630" h="61">
                    <a:moveTo>
                      <a:pt x="0" y="60"/>
                    </a:moveTo>
                    <a:lnTo>
                      <a:pt x="66" y="0"/>
                    </a:lnTo>
                    <a:lnTo>
                      <a:pt x="561" y="0"/>
                    </a:lnTo>
                    <a:lnTo>
                      <a:pt x="629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57840" y="4054320"/>
                <a:ext cx="979560" cy="30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6622920" y="3124080"/>
              <a:ext cx="1000080" cy="944640"/>
              <a:chOff x="6622920" y="3124080"/>
              <a:chExt cx="1000080" cy="944640"/>
            </a:xfrm>
          </p:grpSpPr>
          <p:sp>
            <p:nvSpPr>
              <p:cNvPr id="489" name=""/>
              <p:cNvSpPr/>
              <p:nvPr/>
            </p:nvSpPr>
            <p:spPr>
              <a:xfrm>
                <a:off x="6651720" y="3620880"/>
                <a:ext cx="942840" cy="96840"/>
              </a:xfrm>
              <a:custGeom>
                <a:avLst/>
                <a:gdLst/>
                <a:ahLst/>
                <a:rect l="l" t="t" r="r" b="b"/>
                <a:pathLst>
                  <a:path w="594" h="61">
                    <a:moveTo>
                      <a:pt x="0" y="60"/>
                    </a:moveTo>
                    <a:lnTo>
                      <a:pt x="62" y="0"/>
                    </a:lnTo>
                    <a:lnTo>
                      <a:pt x="533" y="0"/>
                    </a:lnTo>
                    <a:lnTo>
                      <a:pt x="593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ed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651720" y="3620880"/>
                <a:ext cx="942840" cy="96840"/>
              </a:xfrm>
              <a:custGeom>
                <a:avLst/>
                <a:gdLst/>
                <a:ahLst/>
                <a:rect l="l" t="t" r="r" b="b"/>
                <a:pathLst>
                  <a:path w="594" h="61">
                    <a:moveTo>
                      <a:pt x="0" y="60"/>
                    </a:moveTo>
                    <a:lnTo>
                      <a:pt x="62" y="0"/>
                    </a:lnTo>
                    <a:lnTo>
                      <a:pt x="533" y="0"/>
                    </a:lnTo>
                    <a:lnTo>
                      <a:pt x="593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edede7"/>
              </a:solidFill>
              <a:ln cap="rnd" w="1260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788160" y="3124080"/>
                <a:ext cx="673200" cy="71280"/>
              </a:xfrm>
              <a:custGeom>
                <a:avLst/>
                <a:gdLst/>
                <a:ahLst/>
                <a:rect l="l" t="t" r="r" b="b"/>
                <a:pathLst>
                  <a:path w="424" h="45">
                    <a:moveTo>
                      <a:pt x="0" y="44"/>
                    </a:moveTo>
                    <a:lnTo>
                      <a:pt x="46" y="0"/>
                    </a:lnTo>
                    <a:lnTo>
                      <a:pt x="375" y="0"/>
                    </a:lnTo>
                    <a:lnTo>
                      <a:pt x="423" y="44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ed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788160" y="3124080"/>
                <a:ext cx="673200" cy="71280"/>
              </a:xfrm>
              <a:custGeom>
                <a:avLst/>
                <a:gdLst/>
                <a:ahLst/>
                <a:rect l="l" t="t" r="r" b="b"/>
                <a:pathLst>
                  <a:path w="424" h="45">
                    <a:moveTo>
                      <a:pt x="0" y="44"/>
                    </a:moveTo>
                    <a:lnTo>
                      <a:pt x="46" y="0"/>
                    </a:lnTo>
                    <a:lnTo>
                      <a:pt x="375" y="0"/>
                    </a:lnTo>
                    <a:lnTo>
                      <a:pt x="423" y="44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edede7"/>
              </a:solidFill>
              <a:ln cap="rnd" w="1260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802560" y="3206520"/>
                <a:ext cx="645840" cy="466920"/>
              </a:xfrm>
              <a:prstGeom prst="rect">
                <a:avLst/>
              </a:prstGeom>
              <a:solidFill>
                <a:srgbClr val="dbdbce"/>
              </a:solidFill>
              <a:ln w="1260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664320" y="3728880"/>
                <a:ext cx="919080" cy="192240"/>
              </a:xfrm>
              <a:prstGeom prst="rect">
                <a:avLst/>
              </a:prstGeom>
              <a:solidFill>
                <a:srgbClr val="dbdbce"/>
              </a:solidFill>
              <a:ln w="1260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865920" y="3265200"/>
                <a:ext cx="525600" cy="35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6262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7303680" y="3795480"/>
                <a:ext cx="219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626160" y="3927240"/>
                <a:ext cx="996840" cy="100080"/>
              </a:xfrm>
              <a:custGeom>
                <a:avLst/>
                <a:gdLst/>
                <a:ahLst/>
                <a:rect l="l" t="t" r="r" b="b"/>
                <a:pathLst>
                  <a:path w="628" h="63">
                    <a:moveTo>
                      <a:pt x="0" y="62"/>
                    </a:moveTo>
                    <a:lnTo>
                      <a:pt x="66" y="0"/>
                    </a:lnTo>
                    <a:lnTo>
                      <a:pt x="559" y="0"/>
                    </a:lnTo>
                    <a:lnTo>
                      <a:pt x="627" y="62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ed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622920" y="3933720"/>
                <a:ext cx="1000080" cy="96840"/>
              </a:xfrm>
              <a:custGeom>
                <a:avLst/>
                <a:gdLst/>
                <a:ahLst/>
                <a:rect l="l" t="t" r="r" b="b"/>
                <a:pathLst>
                  <a:path w="630" h="61">
                    <a:moveTo>
                      <a:pt x="0" y="60"/>
                    </a:moveTo>
                    <a:lnTo>
                      <a:pt x="66" y="0"/>
                    </a:lnTo>
                    <a:lnTo>
                      <a:pt x="561" y="0"/>
                    </a:lnTo>
                    <a:lnTo>
                      <a:pt x="629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edede7"/>
              </a:solidFill>
              <a:ln cap="rnd" w="1260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638760" y="4038480"/>
                <a:ext cx="979560" cy="30240"/>
              </a:xfrm>
              <a:prstGeom prst="rect">
                <a:avLst/>
              </a:prstGeom>
              <a:solidFill>
                <a:srgbClr val="dbdbce"/>
              </a:solidFill>
              <a:ln w="1260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0" name=""/>
          <p:cNvGrpSpPr/>
          <p:nvPr/>
        </p:nvGrpSpPr>
        <p:grpSpPr>
          <a:xfrm>
            <a:off x="6775560" y="4648320"/>
            <a:ext cx="1022400" cy="960480"/>
            <a:chOff x="6775560" y="4648320"/>
            <a:chExt cx="1022400" cy="960480"/>
          </a:xfrm>
        </p:grpSpPr>
        <p:grpSp>
          <p:nvGrpSpPr>
            <p:cNvPr id="501" name=""/>
            <p:cNvGrpSpPr/>
            <p:nvPr/>
          </p:nvGrpSpPr>
          <p:grpSpPr>
            <a:xfrm>
              <a:off x="6797520" y="4672080"/>
              <a:ext cx="1000440" cy="936720"/>
              <a:chOff x="6797520" y="4672080"/>
              <a:chExt cx="1000440" cy="936720"/>
            </a:xfrm>
          </p:grpSpPr>
          <p:sp>
            <p:nvSpPr>
              <p:cNvPr id="502" name=""/>
              <p:cNvSpPr/>
              <p:nvPr/>
            </p:nvSpPr>
            <p:spPr>
              <a:xfrm>
                <a:off x="6823080" y="5166000"/>
                <a:ext cx="939960" cy="96840"/>
              </a:xfrm>
              <a:custGeom>
                <a:avLst/>
                <a:gdLst/>
                <a:ahLst/>
                <a:rect l="l" t="t" r="r" b="b"/>
                <a:pathLst>
                  <a:path w="592" h="61">
                    <a:moveTo>
                      <a:pt x="0" y="60"/>
                    </a:moveTo>
                    <a:lnTo>
                      <a:pt x="64" y="0"/>
                    </a:lnTo>
                    <a:lnTo>
                      <a:pt x="531" y="0"/>
                    </a:lnTo>
                    <a:lnTo>
                      <a:pt x="591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826320" y="5166000"/>
                <a:ext cx="942840" cy="96840"/>
              </a:xfrm>
              <a:custGeom>
                <a:avLst/>
                <a:gdLst/>
                <a:ahLst/>
                <a:rect l="l" t="t" r="r" b="b"/>
                <a:pathLst>
                  <a:path w="594" h="61">
                    <a:moveTo>
                      <a:pt x="0" y="60"/>
                    </a:moveTo>
                    <a:lnTo>
                      <a:pt x="62" y="0"/>
                    </a:lnTo>
                    <a:lnTo>
                      <a:pt x="533" y="0"/>
                    </a:lnTo>
                    <a:lnTo>
                      <a:pt x="593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962760" y="4672080"/>
                <a:ext cx="669960" cy="63720"/>
              </a:xfrm>
              <a:custGeom>
                <a:avLst/>
                <a:gdLst/>
                <a:ahLst/>
                <a:rect l="l" t="t" r="r" b="b"/>
                <a:pathLst>
                  <a:path w="422" h="40">
                    <a:moveTo>
                      <a:pt x="0" y="39"/>
                    </a:moveTo>
                    <a:lnTo>
                      <a:pt x="44" y="0"/>
                    </a:lnTo>
                    <a:lnTo>
                      <a:pt x="375" y="0"/>
                    </a:lnTo>
                    <a:lnTo>
                      <a:pt x="421" y="39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62760" y="4672080"/>
                <a:ext cx="669960" cy="63720"/>
              </a:xfrm>
              <a:custGeom>
                <a:avLst/>
                <a:gdLst/>
                <a:ahLst/>
                <a:rect l="l" t="t" r="r" b="b"/>
                <a:pathLst>
                  <a:path w="422" h="40">
                    <a:moveTo>
                      <a:pt x="0" y="39"/>
                    </a:moveTo>
                    <a:lnTo>
                      <a:pt x="44" y="0"/>
                    </a:lnTo>
                    <a:lnTo>
                      <a:pt x="375" y="0"/>
                    </a:lnTo>
                    <a:lnTo>
                      <a:pt x="421" y="39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77160" y="4748400"/>
                <a:ext cx="642960" cy="4636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835680" y="5274000"/>
                <a:ext cx="922320" cy="187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034040" y="4810320"/>
                <a:ext cx="528840" cy="347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7475040" y="5335920"/>
                <a:ext cx="219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797520" y="5470920"/>
                <a:ext cx="1000440" cy="96840"/>
              </a:xfrm>
              <a:custGeom>
                <a:avLst/>
                <a:gdLst/>
                <a:ahLst/>
                <a:rect l="l" t="t" r="r" b="b"/>
                <a:pathLst>
                  <a:path w="630" h="61">
                    <a:moveTo>
                      <a:pt x="0" y="60"/>
                    </a:moveTo>
                    <a:lnTo>
                      <a:pt x="66" y="0"/>
                    </a:lnTo>
                    <a:lnTo>
                      <a:pt x="559" y="0"/>
                    </a:lnTo>
                    <a:lnTo>
                      <a:pt x="629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797520" y="5473800"/>
                <a:ext cx="1000440" cy="96840"/>
              </a:xfrm>
              <a:custGeom>
                <a:avLst/>
                <a:gdLst/>
                <a:ahLst/>
                <a:rect l="l" t="t" r="r" b="b"/>
                <a:pathLst>
                  <a:path w="630" h="61">
                    <a:moveTo>
                      <a:pt x="0" y="60"/>
                    </a:moveTo>
                    <a:lnTo>
                      <a:pt x="66" y="0"/>
                    </a:lnTo>
                    <a:lnTo>
                      <a:pt x="561" y="0"/>
                    </a:lnTo>
                    <a:lnTo>
                      <a:pt x="629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810480" y="5578560"/>
                <a:ext cx="979200" cy="30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6775560" y="4648320"/>
              <a:ext cx="1000080" cy="944640"/>
              <a:chOff x="6775560" y="4648320"/>
              <a:chExt cx="1000080" cy="944640"/>
            </a:xfrm>
          </p:grpSpPr>
          <p:sp>
            <p:nvSpPr>
              <p:cNvPr id="514" name=""/>
              <p:cNvSpPr/>
              <p:nvPr/>
            </p:nvSpPr>
            <p:spPr>
              <a:xfrm>
                <a:off x="6804000" y="5145480"/>
                <a:ext cx="942840" cy="96840"/>
              </a:xfrm>
              <a:custGeom>
                <a:avLst/>
                <a:gdLst/>
                <a:ahLst/>
                <a:rect l="l" t="t" r="r" b="b"/>
                <a:pathLst>
                  <a:path w="594" h="61">
                    <a:moveTo>
                      <a:pt x="0" y="60"/>
                    </a:moveTo>
                    <a:lnTo>
                      <a:pt x="62" y="0"/>
                    </a:lnTo>
                    <a:lnTo>
                      <a:pt x="533" y="0"/>
                    </a:lnTo>
                    <a:lnTo>
                      <a:pt x="593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ed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804000" y="5145480"/>
                <a:ext cx="942840" cy="96840"/>
              </a:xfrm>
              <a:custGeom>
                <a:avLst/>
                <a:gdLst/>
                <a:ahLst/>
                <a:rect l="l" t="t" r="r" b="b"/>
                <a:pathLst>
                  <a:path w="594" h="61">
                    <a:moveTo>
                      <a:pt x="0" y="60"/>
                    </a:moveTo>
                    <a:lnTo>
                      <a:pt x="62" y="0"/>
                    </a:lnTo>
                    <a:lnTo>
                      <a:pt x="533" y="0"/>
                    </a:lnTo>
                    <a:lnTo>
                      <a:pt x="593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edede7"/>
              </a:solidFill>
              <a:ln cap="rnd" w="1260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940440" y="4648320"/>
                <a:ext cx="673200" cy="71640"/>
              </a:xfrm>
              <a:custGeom>
                <a:avLst/>
                <a:gdLst/>
                <a:ahLst/>
                <a:rect l="l" t="t" r="r" b="b"/>
                <a:pathLst>
                  <a:path w="424" h="45">
                    <a:moveTo>
                      <a:pt x="0" y="44"/>
                    </a:moveTo>
                    <a:lnTo>
                      <a:pt x="46" y="0"/>
                    </a:lnTo>
                    <a:lnTo>
                      <a:pt x="375" y="0"/>
                    </a:lnTo>
                    <a:lnTo>
                      <a:pt x="423" y="44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ed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940440" y="4648320"/>
                <a:ext cx="673200" cy="71640"/>
              </a:xfrm>
              <a:custGeom>
                <a:avLst/>
                <a:gdLst/>
                <a:ahLst/>
                <a:rect l="l" t="t" r="r" b="b"/>
                <a:pathLst>
                  <a:path w="424" h="45">
                    <a:moveTo>
                      <a:pt x="0" y="44"/>
                    </a:moveTo>
                    <a:lnTo>
                      <a:pt x="46" y="0"/>
                    </a:lnTo>
                    <a:lnTo>
                      <a:pt x="375" y="0"/>
                    </a:lnTo>
                    <a:lnTo>
                      <a:pt x="423" y="44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edede7"/>
              </a:solidFill>
              <a:ln cap="rnd" w="1260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54840" y="4731120"/>
                <a:ext cx="646200" cy="466560"/>
              </a:xfrm>
              <a:prstGeom prst="rect">
                <a:avLst/>
              </a:prstGeom>
              <a:solidFill>
                <a:srgbClr val="dbdbce"/>
              </a:solidFill>
              <a:ln w="1260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816600" y="5253120"/>
                <a:ext cx="919440" cy="192240"/>
              </a:xfrm>
              <a:prstGeom prst="rect">
                <a:avLst/>
              </a:prstGeom>
              <a:solidFill>
                <a:srgbClr val="dbdbce"/>
              </a:solidFill>
              <a:ln w="1260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018200" y="4789800"/>
                <a:ext cx="525600" cy="35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6262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7455960" y="5320080"/>
                <a:ext cx="219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778440" y="5451840"/>
                <a:ext cx="997200" cy="99720"/>
              </a:xfrm>
              <a:custGeom>
                <a:avLst/>
                <a:gdLst/>
                <a:ahLst/>
                <a:rect l="l" t="t" r="r" b="b"/>
                <a:pathLst>
                  <a:path w="628" h="63">
                    <a:moveTo>
                      <a:pt x="0" y="62"/>
                    </a:moveTo>
                    <a:lnTo>
                      <a:pt x="66" y="0"/>
                    </a:lnTo>
                    <a:lnTo>
                      <a:pt x="559" y="0"/>
                    </a:lnTo>
                    <a:lnTo>
                      <a:pt x="627" y="62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ed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775560" y="5457960"/>
                <a:ext cx="1000080" cy="96840"/>
              </a:xfrm>
              <a:custGeom>
                <a:avLst/>
                <a:gdLst/>
                <a:ahLst/>
                <a:rect l="l" t="t" r="r" b="b"/>
                <a:pathLst>
                  <a:path w="630" h="61">
                    <a:moveTo>
                      <a:pt x="0" y="60"/>
                    </a:moveTo>
                    <a:lnTo>
                      <a:pt x="66" y="0"/>
                    </a:lnTo>
                    <a:lnTo>
                      <a:pt x="561" y="0"/>
                    </a:lnTo>
                    <a:lnTo>
                      <a:pt x="629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edede7"/>
              </a:solidFill>
              <a:ln cap="rnd" w="1260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91400" y="5562720"/>
                <a:ext cx="979560" cy="30240"/>
              </a:xfrm>
              <a:prstGeom prst="rect">
                <a:avLst/>
              </a:prstGeom>
              <a:solidFill>
                <a:srgbClr val="dbdbce"/>
              </a:solidFill>
              <a:ln w="1260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"/>
          <p:cNvSpPr/>
          <p:nvPr/>
        </p:nvSpPr>
        <p:spPr>
          <a:xfrm>
            <a:off x="6345000" y="4022640"/>
            <a:ext cx="1591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erver Corr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324120" y="5791320"/>
            <a:ext cx="155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ervidor D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6319440" y="5334120"/>
            <a:ext cx="531720" cy="144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6243480" y="2209680"/>
            <a:ext cx="532080" cy="1800"/>
          </a:xfrm>
          <a:prstGeom prst="line">
            <a:avLst/>
          </a:prstGeom>
          <a:ln w="76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318360" y="4268520"/>
            <a:ext cx="1440" cy="106524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242040" y="2211480"/>
            <a:ext cx="1440" cy="1141200"/>
          </a:xfrm>
          <a:prstGeom prst="line">
            <a:avLst/>
          </a:prstGeom>
          <a:ln w="76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97120" y="5500800"/>
            <a:ext cx="228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Accesos Obligatorios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3805200" y="4420800"/>
            <a:ext cx="1141560" cy="1065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83080" y="2529000"/>
            <a:ext cx="142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IREW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805200" y="4039920"/>
            <a:ext cx="1141560" cy="1446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805200" y="3506400"/>
            <a:ext cx="1141560" cy="1979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013440" y="1982880"/>
            <a:ext cx="1440" cy="1141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14880" y="1981080"/>
            <a:ext cx="836640" cy="1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46760" y="3809880"/>
            <a:ext cx="152280" cy="152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22720" y="4191120"/>
            <a:ext cx="152640" cy="15228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022720" y="3276720"/>
            <a:ext cx="152640" cy="15228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46760" y="30481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805200" y="3201840"/>
            <a:ext cx="1141560" cy="228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671400" y="1494000"/>
            <a:ext cx="615960" cy="110952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5486400" y="6400800"/>
            <a:ext cx="320040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8121600" y="5897520"/>
            <a:ext cx="1022400" cy="960480"/>
            <a:chOff x="8121600" y="5897520"/>
            <a:chExt cx="1022400" cy="960480"/>
          </a:xfrm>
        </p:grpSpPr>
        <p:grpSp>
          <p:nvGrpSpPr>
            <p:cNvPr id="546" name=""/>
            <p:cNvGrpSpPr/>
            <p:nvPr/>
          </p:nvGrpSpPr>
          <p:grpSpPr>
            <a:xfrm>
              <a:off x="8143560" y="5921280"/>
              <a:ext cx="1000440" cy="936720"/>
              <a:chOff x="8143560" y="5921280"/>
              <a:chExt cx="1000440" cy="936720"/>
            </a:xfrm>
          </p:grpSpPr>
          <p:sp>
            <p:nvSpPr>
              <p:cNvPr id="547" name=""/>
              <p:cNvSpPr/>
              <p:nvPr/>
            </p:nvSpPr>
            <p:spPr>
              <a:xfrm>
                <a:off x="8169120" y="6415200"/>
                <a:ext cx="939960" cy="96840"/>
              </a:xfrm>
              <a:custGeom>
                <a:avLst/>
                <a:gdLst/>
                <a:ahLst/>
                <a:rect l="l" t="t" r="r" b="b"/>
                <a:pathLst>
                  <a:path w="592" h="61">
                    <a:moveTo>
                      <a:pt x="0" y="60"/>
                    </a:moveTo>
                    <a:lnTo>
                      <a:pt x="64" y="0"/>
                    </a:lnTo>
                    <a:lnTo>
                      <a:pt x="531" y="0"/>
                    </a:lnTo>
                    <a:lnTo>
                      <a:pt x="591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172360" y="6415200"/>
                <a:ext cx="942840" cy="96840"/>
              </a:xfrm>
              <a:custGeom>
                <a:avLst/>
                <a:gdLst/>
                <a:ahLst/>
                <a:rect l="l" t="t" r="r" b="b"/>
                <a:pathLst>
                  <a:path w="594" h="61">
                    <a:moveTo>
                      <a:pt x="0" y="60"/>
                    </a:moveTo>
                    <a:lnTo>
                      <a:pt x="62" y="0"/>
                    </a:lnTo>
                    <a:lnTo>
                      <a:pt x="533" y="0"/>
                    </a:lnTo>
                    <a:lnTo>
                      <a:pt x="593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308800" y="5921280"/>
                <a:ext cx="669960" cy="63720"/>
              </a:xfrm>
              <a:custGeom>
                <a:avLst/>
                <a:gdLst/>
                <a:ahLst/>
                <a:rect l="l" t="t" r="r" b="b"/>
                <a:pathLst>
                  <a:path w="422" h="40">
                    <a:moveTo>
                      <a:pt x="0" y="39"/>
                    </a:moveTo>
                    <a:lnTo>
                      <a:pt x="44" y="0"/>
                    </a:lnTo>
                    <a:lnTo>
                      <a:pt x="375" y="0"/>
                    </a:lnTo>
                    <a:lnTo>
                      <a:pt x="421" y="39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308800" y="5921280"/>
                <a:ext cx="669960" cy="63720"/>
              </a:xfrm>
              <a:custGeom>
                <a:avLst/>
                <a:gdLst/>
                <a:ahLst/>
                <a:rect l="l" t="t" r="r" b="b"/>
                <a:pathLst>
                  <a:path w="422" h="40">
                    <a:moveTo>
                      <a:pt x="0" y="39"/>
                    </a:moveTo>
                    <a:lnTo>
                      <a:pt x="44" y="0"/>
                    </a:lnTo>
                    <a:lnTo>
                      <a:pt x="375" y="0"/>
                    </a:lnTo>
                    <a:lnTo>
                      <a:pt x="421" y="39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323200" y="5997600"/>
                <a:ext cx="642960" cy="4636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181720" y="6523200"/>
                <a:ext cx="922320" cy="187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380080" y="6059520"/>
                <a:ext cx="528840" cy="3477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8821080" y="6585120"/>
                <a:ext cx="219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143560" y="6720120"/>
                <a:ext cx="1000440" cy="96840"/>
              </a:xfrm>
              <a:custGeom>
                <a:avLst/>
                <a:gdLst/>
                <a:ahLst/>
                <a:rect l="l" t="t" r="r" b="b"/>
                <a:pathLst>
                  <a:path w="630" h="61">
                    <a:moveTo>
                      <a:pt x="0" y="60"/>
                    </a:moveTo>
                    <a:lnTo>
                      <a:pt x="66" y="0"/>
                    </a:lnTo>
                    <a:lnTo>
                      <a:pt x="559" y="0"/>
                    </a:lnTo>
                    <a:lnTo>
                      <a:pt x="629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143560" y="6723000"/>
                <a:ext cx="1000440" cy="96840"/>
              </a:xfrm>
              <a:custGeom>
                <a:avLst/>
                <a:gdLst/>
                <a:ahLst/>
                <a:rect l="l" t="t" r="r" b="b"/>
                <a:pathLst>
                  <a:path w="630" h="61">
                    <a:moveTo>
                      <a:pt x="0" y="60"/>
                    </a:moveTo>
                    <a:lnTo>
                      <a:pt x="66" y="0"/>
                    </a:lnTo>
                    <a:lnTo>
                      <a:pt x="561" y="0"/>
                    </a:lnTo>
                    <a:lnTo>
                      <a:pt x="629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156520" y="6827760"/>
                <a:ext cx="979200" cy="302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8121600" y="5897520"/>
              <a:ext cx="1000080" cy="944640"/>
              <a:chOff x="8121600" y="5897520"/>
              <a:chExt cx="1000080" cy="944640"/>
            </a:xfrm>
          </p:grpSpPr>
          <p:sp>
            <p:nvSpPr>
              <p:cNvPr id="559" name=""/>
              <p:cNvSpPr/>
              <p:nvPr/>
            </p:nvSpPr>
            <p:spPr>
              <a:xfrm>
                <a:off x="8150040" y="6394680"/>
                <a:ext cx="942840" cy="96840"/>
              </a:xfrm>
              <a:custGeom>
                <a:avLst/>
                <a:gdLst/>
                <a:ahLst/>
                <a:rect l="l" t="t" r="r" b="b"/>
                <a:pathLst>
                  <a:path w="594" h="61">
                    <a:moveTo>
                      <a:pt x="0" y="60"/>
                    </a:moveTo>
                    <a:lnTo>
                      <a:pt x="62" y="0"/>
                    </a:lnTo>
                    <a:lnTo>
                      <a:pt x="533" y="0"/>
                    </a:lnTo>
                    <a:lnTo>
                      <a:pt x="593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150040" y="6394680"/>
                <a:ext cx="942840" cy="96840"/>
              </a:xfrm>
              <a:custGeom>
                <a:avLst/>
                <a:gdLst/>
                <a:ahLst/>
                <a:rect l="l" t="t" r="r" b="b"/>
                <a:pathLst>
                  <a:path w="594" h="61">
                    <a:moveTo>
                      <a:pt x="0" y="60"/>
                    </a:moveTo>
                    <a:lnTo>
                      <a:pt x="62" y="0"/>
                    </a:lnTo>
                    <a:lnTo>
                      <a:pt x="533" y="0"/>
                    </a:lnTo>
                    <a:lnTo>
                      <a:pt x="593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286480" y="5897520"/>
                <a:ext cx="673200" cy="71640"/>
              </a:xfrm>
              <a:custGeom>
                <a:avLst/>
                <a:gdLst/>
                <a:ahLst/>
                <a:rect l="l" t="t" r="r" b="b"/>
                <a:pathLst>
                  <a:path w="424" h="45">
                    <a:moveTo>
                      <a:pt x="0" y="44"/>
                    </a:moveTo>
                    <a:lnTo>
                      <a:pt x="46" y="0"/>
                    </a:lnTo>
                    <a:lnTo>
                      <a:pt x="375" y="0"/>
                    </a:lnTo>
                    <a:lnTo>
                      <a:pt x="423" y="44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286480" y="5897520"/>
                <a:ext cx="673200" cy="71640"/>
              </a:xfrm>
              <a:custGeom>
                <a:avLst/>
                <a:gdLst/>
                <a:ahLst/>
                <a:rect l="l" t="t" r="r" b="b"/>
                <a:pathLst>
                  <a:path w="424" h="45">
                    <a:moveTo>
                      <a:pt x="0" y="44"/>
                    </a:moveTo>
                    <a:lnTo>
                      <a:pt x="46" y="0"/>
                    </a:lnTo>
                    <a:lnTo>
                      <a:pt x="375" y="0"/>
                    </a:lnTo>
                    <a:lnTo>
                      <a:pt x="423" y="44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300880" y="5980320"/>
                <a:ext cx="646200" cy="4665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162640" y="6502320"/>
                <a:ext cx="919440" cy="1922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364240" y="6039000"/>
                <a:ext cx="525600" cy="3524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6262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8802000" y="6569280"/>
                <a:ext cx="219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124480" y="6701040"/>
                <a:ext cx="997200" cy="99720"/>
              </a:xfrm>
              <a:custGeom>
                <a:avLst/>
                <a:gdLst/>
                <a:ahLst/>
                <a:rect l="l" t="t" r="r" b="b"/>
                <a:pathLst>
                  <a:path w="628" h="63">
                    <a:moveTo>
                      <a:pt x="0" y="62"/>
                    </a:moveTo>
                    <a:lnTo>
                      <a:pt x="66" y="0"/>
                    </a:lnTo>
                    <a:lnTo>
                      <a:pt x="559" y="0"/>
                    </a:lnTo>
                    <a:lnTo>
                      <a:pt x="627" y="62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121600" y="6707160"/>
                <a:ext cx="1000080" cy="96840"/>
              </a:xfrm>
              <a:custGeom>
                <a:avLst/>
                <a:gdLst/>
                <a:ahLst/>
                <a:rect l="l" t="t" r="r" b="b"/>
                <a:pathLst>
                  <a:path w="630" h="61">
                    <a:moveTo>
                      <a:pt x="0" y="60"/>
                    </a:moveTo>
                    <a:lnTo>
                      <a:pt x="66" y="0"/>
                    </a:lnTo>
                    <a:lnTo>
                      <a:pt x="561" y="0"/>
                    </a:lnTo>
                    <a:lnTo>
                      <a:pt x="629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137440" y="6811920"/>
                <a:ext cx="979560" cy="302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0" name=""/>
          <p:cNvSpPr/>
          <p:nvPr/>
        </p:nvSpPr>
        <p:spPr>
          <a:xfrm>
            <a:off x="6094440" y="6491160"/>
            <a:ext cx="202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33"/>
                </a:solidFill>
                <a:latin typeface="Times New Roman"/>
              </a:rPr>
              <a:t>Servidor Bitáco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610480" y="2057400"/>
            <a:ext cx="0" cy="38098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315200" y="2057400"/>
            <a:ext cx="129528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6699240" y="1600200"/>
            <a:ext cx="1022400" cy="960480"/>
            <a:chOff x="6699240" y="1600200"/>
            <a:chExt cx="1022400" cy="960480"/>
          </a:xfrm>
        </p:grpSpPr>
        <p:grpSp>
          <p:nvGrpSpPr>
            <p:cNvPr id="574" name=""/>
            <p:cNvGrpSpPr/>
            <p:nvPr/>
          </p:nvGrpSpPr>
          <p:grpSpPr>
            <a:xfrm>
              <a:off x="6721560" y="1623960"/>
              <a:ext cx="1000080" cy="936720"/>
              <a:chOff x="6721560" y="1623960"/>
              <a:chExt cx="1000080" cy="936720"/>
            </a:xfrm>
          </p:grpSpPr>
          <p:sp>
            <p:nvSpPr>
              <p:cNvPr id="575" name=""/>
              <p:cNvSpPr/>
              <p:nvPr/>
            </p:nvSpPr>
            <p:spPr>
              <a:xfrm>
                <a:off x="6746760" y="2117520"/>
                <a:ext cx="939960" cy="96840"/>
              </a:xfrm>
              <a:custGeom>
                <a:avLst/>
                <a:gdLst/>
                <a:ahLst/>
                <a:rect l="l" t="t" r="r" b="b"/>
                <a:pathLst>
                  <a:path w="592" h="61">
                    <a:moveTo>
                      <a:pt x="0" y="60"/>
                    </a:moveTo>
                    <a:lnTo>
                      <a:pt x="64" y="0"/>
                    </a:lnTo>
                    <a:lnTo>
                      <a:pt x="531" y="0"/>
                    </a:lnTo>
                    <a:lnTo>
                      <a:pt x="591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750000" y="2117520"/>
                <a:ext cx="942840" cy="96840"/>
              </a:xfrm>
              <a:custGeom>
                <a:avLst/>
                <a:gdLst/>
                <a:ahLst/>
                <a:rect l="l" t="t" r="r" b="b"/>
                <a:pathLst>
                  <a:path w="594" h="61">
                    <a:moveTo>
                      <a:pt x="0" y="60"/>
                    </a:moveTo>
                    <a:lnTo>
                      <a:pt x="62" y="0"/>
                    </a:lnTo>
                    <a:lnTo>
                      <a:pt x="533" y="0"/>
                    </a:lnTo>
                    <a:lnTo>
                      <a:pt x="593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886440" y="1623960"/>
                <a:ext cx="669960" cy="63360"/>
              </a:xfrm>
              <a:custGeom>
                <a:avLst/>
                <a:gdLst/>
                <a:ahLst/>
                <a:rect l="l" t="t" r="r" b="b"/>
                <a:pathLst>
                  <a:path w="422" h="40">
                    <a:moveTo>
                      <a:pt x="0" y="39"/>
                    </a:moveTo>
                    <a:lnTo>
                      <a:pt x="44" y="0"/>
                    </a:lnTo>
                    <a:lnTo>
                      <a:pt x="375" y="0"/>
                    </a:lnTo>
                    <a:lnTo>
                      <a:pt x="421" y="39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86440" y="1623960"/>
                <a:ext cx="669960" cy="63360"/>
              </a:xfrm>
              <a:custGeom>
                <a:avLst/>
                <a:gdLst/>
                <a:ahLst/>
                <a:rect l="l" t="t" r="r" b="b"/>
                <a:pathLst>
                  <a:path w="422" h="40">
                    <a:moveTo>
                      <a:pt x="0" y="39"/>
                    </a:moveTo>
                    <a:lnTo>
                      <a:pt x="44" y="0"/>
                    </a:lnTo>
                    <a:lnTo>
                      <a:pt x="375" y="0"/>
                    </a:lnTo>
                    <a:lnTo>
                      <a:pt x="421" y="39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900840" y="1699920"/>
                <a:ext cx="642960" cy="4636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759720" y="2225520"/>
                <a:ext cx="922320" cy="187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958080" y="1761840"/>
                <a:ext cx="528480" cy="347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7399440" y="2287440"/>
                <a:ext cx="21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21560" y="2422440"/>
                <a:ext cx="1000080" cy="96840"/>
              </a:xfrm>
              <a:custGeom>
                <a:avLst/>
                <a:gdLst/>
                <a:ahLst/>
                <a:rect l="l" t="t" r="r" b="b"/>
                <a:pathLst>
                  <a:path w="630" h="61">
                    <a:moveTo>
                      <a:pt x="0" y="60"/>
                    </a:moveTo>
                    <a:lnTo>
                      <a:pt x="66" y="0"/>
                    </a:lnTo>
                    <a:lnTo>
                      <a:pt x="559" y="0"/>
                    </a:lnTo>
                    <a:lnTo>
                      <a:pt x="629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721560" y="2425680"/>
                <a:ext cx="1000080" cy="96840"/>
              </a:xfrm>
              <a:custGeom>
                <a:avLst/>
                <a:gdLst/>
                <a:ahLst/>
                <a:rect l="l" t="t" r="r" b="b"/>
                <a:pathLst>
                  <a:path w="630" h="61">
                    <a:moveTo>
                      <a:pt x="0" y="60"/>
                    </a:moveTo>
                    <a:lnTo>
                      <a:pt x="66" y="0"/>
                    </a:lnTo>
                    <a:lnTo>
                      <a:pt x="561" y="0"/>
                    </a:lnTo>
                    <a:lnTo>
                      <a:pt x="629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734160" y="2530440"/>
                <a:ext cx="979560" cy="30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6699240" y="1600200"/>
              <a:ext cx="1000080" cy="944280"/>
              <a:chOff x="6699240" y="1600200"/>
              <a:chExt cx="1000080" cy="944280"/>
            </a:xfrm>
          </p:grpSpPr>
          <p:sp>
            <p:nvSpPr>
              <p:cNvPr id="587" name=""/>
              <p:cNvSpPr/>
              <p:nvPr/>
            </p:nvSpPr>
            <p:spPr>
              <a:xfrm>
                <a:off x="6727680" y="2097000"/>
                <a:ext cx="943200" cy="96840"/>
              </a:xfrm>
              <a:custGeom>
                <a:avLst/>
                <a:gdLst/>
                <a:ahLst/>
                <a:rect l="l" t="t" r="r" b="b"/>
                <a:pathLst>
                  <a:path w="594" h="61">
                    <a:moveTo>
                      <a:pt x="0" y="60"/>
                    </a:moveTo>
                    <a:lnTo>
                      <a:pt x="62" y="0"/>
                    </a:lnTo>
                    <a:lnTo>
                      <a:pt x="533" y="0"/>
                    </a:lnTo>
                    <a:lnTo>
                      <a:pt x="593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ed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727680" y="2097000"/>
                <a:ext cx="943200" cy="96840"/>
              </a:xfrm>
              <a:custGeom>
                <a:avLst/>
                <a:gdLst/>
                <a:ahLst/>
                <a:rect l="l" t="t" r="r" b="b"/>
                <a:pathLst>
                  <a:path w="594" h="61">
                    <a:moveTo>
                      <a:pt x="0" y="60"/>
                    </a:moveTo>
                    <a:lnTo>
                      <a:pt x="62" y="0"/>
                    </a:lnTo>
                    <a:lnTo>
                      <a:pt x="533" y="0"/>
                    </a:lnTo>
                    <a:lnTo>
                      <a:pt x="593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edede7"/>
              </a:solidFill>
              <a:ln cap="rnd" w="1260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864480" y="1600200"/>
                <a:ext cx="672840" cy="71280"/>
              </a:xfrm>
              <a:custGeom>
                <a:avLst/>
                <a:gdLst/>
                <a:ahLst/>
                <a:rect l="l" t="t" r="r" b="b"/>
                <a:pathLst>
                  <a:path w="424" h="45">
                    <a:moveTo>
                      <a:pt x="0" y="44"/>
                    </a:moveTo>
                    <a:lnTo>
                      <a:pt x="46" y="0"/>
                    </a:lnTo>
                    <a:lnTo>
                      <a:pt x="375" y="0"/>
                    </a:lnTo>
                    <a:lnTo>
                      <a:pt x="423" y="44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ed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864480" y="1600200"/>
                <a:ext cx="672840" cy="71280"/>
              </a:xfrm>
              <a:custGeom>
                <a:avLst/>
                <a:gdLst/>
                <a:ahLst/>
                <a:rect l="l" t="t" r="r" b="b"/>
                <a:pathLst>
                  <a:path w="424" h="45">
                    <a:moveTo>
                      <a:pt x="0" y="44"/>
                    </a:moveTo>
                    <a:lnTo>
                      <a:pt x="46" y="0"/>
                    </a:lnTo>
                    <a:lnTo>
                      <a:pt x="375" y="0"/>
                    </a:lnTo>
                    <a:lnTo>
                      <a:pt x="423" y="44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edede7"/>
              </a:solidFill>
              <a:ln cap="rnd" w="1260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878520" y="1682640"/>
                <a:ext cx="646200" cy="466560"/>
              </a:xfrm>
              <a:prstGeom prst="rect">
                <a:avLst/>
              </a:prstGeom>
              <a:solidFill>
                <a:srgbClr val="dbdbce"/>
              </a:solidFill>
              <a:ln w="1260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740640" y="2205000"/>
                <a:ext cx="919080" cy="191880"/>
              </a:xfrm>
              <a:prstGeom prst="rect">
                <a:avLst/>
              </a:prstGeom>
              <a:solidFill>
                <a:srgbClr val="dbdbce"/>
              </a:solidFill>
              <a:ln w="1260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942240" y="1741320"/>
                <a:ext cx="525240" cy="35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6262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7380360" y="2271600"/>
                <a:ext cx="21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702480" y="2403360"/>
                <a:ext cx="996840" cy="100080"/>
              </a:xfrm>
              <a:custGeom>
                <a:avLst/>
                <a:gdLst/>
                <a:ahLst/>
                <a:rect l="l" t="t" r="r" b="b"/>
                <a:pathLst>
                  <a:path w="628" h="63">
                    <a:moveTo>
                      <a:pt x="0" y="62"/>
                    </a:moveTo>
                    <a:lnTo>
                      <a:pt x="66" y="0"/>
                    </a:lnTo>
                    <a:lnTo>
                      <a:pt x="559" y="0"/>
                    </a:lnTo>
                    <a:lnTo>
                      <a:pt x="627" y="62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ed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99240" y="2409840"/>
                <a:ext cx="1000080" cy="96840"/>
              </a:xfrm>
              <a:custGeom>
                <a:avLst/>
                <a:gdLst/>
                <a:ahLst/>
                <a:rect l="l" t="t" r="r" b="b"/>
                <a:pathLst>
                  <a:path w="630" h="61">
                    <a:moveTo>
                      <a:pt x="0" y="60"/>
                    </a:moveTo>
                    <a:lnTo>
                      <a:pt x="66" y="0"/>
                    </a:lnTo>
                    <a:lnTo>
                      <a:pt x="561" y="0"/>
                    </a:lnTo>
                    <a:lnTo>
                      <a:pt x="629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edede7"/>
              </a:solidFill>
              <a:ln cap="rnd" w="12600">
                <a:solidFill>
                  <a:srgbClr val="6262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715080" y="2514600"/>
                <a:ext cx="979560" cy="29880"/>
              </a:xfrm>
              <a:prstGeom prst="rect">
                <a:avLst/>
              </a:prstGeom>
              <a:solidFill>
                <a:srgbClr val="dbdbce"/>
              </a:solidFill>
              <a:ln w="12600">
                <a:solidFill>
                  <a:srgbClr val="7a7a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Los secretos comparti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écnica para dividir un secreto, D, en N partes, de tal manera que para recuperarlo se requieren K partes, donde K&lt;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tener K-1 partes no permite recuperar ni intuir D, únicamente se puede recuperar teniendo las K de N par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Esquema Secretos Comparti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666880" y="1600200"/>
            <a:ext cx="3353040" cy="609480"/>
          </a:xfrm>
          <a:prstGeom prst="rect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cr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649040" y="219240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2666880" y="2514600"/>
            <a:ext cx="3276720" cy="457200"/>
            <a:chOff x="2666880" y="2514600"/>
            <a:chExt cx="3276720" cy="457200"/>
          </a:xfrm>
        </p:grpSpPr>
        <p:sp>
          <p:nvSpPr>
            <p:cNvPr id="604" name=""/>
            <p:cNvSpPr/>
            <p:nvPr/>
          </p:nvSpPr>
          <p:spPr>
            <a:xfrm>
              <a:off x="2666880" y="2514600"/>
              <a:ext cx="457200" cy="457200"/>
            </a:xfrm>
            <a:prstGeom prst="rect">
              <a:avLst/>
            </a:prstGeom>
            <a:solidFill>
              <a:srgbClr val="0066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s-MX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24080" y="2514600"/>
              <a:ext cx="457200" cy="457200"/>
            </a:xfrm>
            <a:prstGeom prst="rect">
              <a:avLst/>
            </a:prstGeom>
            <a:solidFill>
              <a:srgbClr val="0066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s-MX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581280" y="2514600"/>
              <a:ext cx="457200" cy="457200"/>
            </a:xfrm>
            <a:prstGeom prst="rect">
              <a:avLst/>
            </a:prstGeom>
            <a:solidFill>
              <a:srgbClr val="0066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s-MX" sz="24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038480" y="2514600"/>
              <a:ext cx="457200" cy="457200"/>
            </a:xfrm>
            <a:prstGeom prst="rect">
              <a:avLst/>
            </a:prstGeom>
            <a:solidFill>
              <a:srgbClr val="0066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s-MX" sz="24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486400" y="2514600"/>
              <a:ext cx="457200" cy="457200"/>
            </a:xfrm>
            <a:prstGeom prst="rect">
              <a:avLst/>
            </a:prstGeom>
            <a:solidFill>
              <a:srgbClr val="0066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s-MX" sz="2400" spc="-1" strike="noStrike" baseline="-25000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2743200" y="3581280"/>
            <a:ext cx="457200" cy="457200"/>
          </a:xfrm>
          <a:prstGeom prst="rect">
            <a:avLst/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181480" y="3581280"/>
            <a:ext cx="457200" cy="457200"/>
          </a:xfrm>
          <a:prstGeom prst="rect">
            <a:avLst/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962520" y="3581280"/>
            <a:ext cx="457200" cy="457200"/>
          </a:xfrm>
          <a:prstGeom prst="rect">
            <a:avLst/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743200" y="5943600"/>
            <a:ext cx="3352680" cy="609480"/>
          </a:xfrm>
          <a:prstGeom prst="rect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cr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77440" y="327672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496760" y="327672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971800" y="4038480"/>
            <a:ext cx="53352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91120" y="40384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800240" y="4038480"/>
            <a:ext cx="60948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40320" y="4495680"/>
            <a:ext cx="34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leccionando m de n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construir el secr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5334120"/>
            <a:ext cx="8384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Tres enfoque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lak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akley, G.R. Safeguarding Cryptographic Keys. Proc. AFIPS 1979 NCC, Vol. 48, Arlington, Va., June 1979, pp. 313-3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ichael Rab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.O. Rabin, "Efficient Dispersal of Information for Security, Load Balancing and Fault Tolerance", ACM Journal of the Association for Computing Machinery, Vol.36 No 2, April 1989, pp 335-3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di Sham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mir A., How to Share a Secret, Communications of the ACM, 22, 1979, pp. 612--6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El enfoque de Blakle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 basa en geometría e intersección de plano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 es considerado perfecto ya que el tener una de las k partes permite conocer que el secreto es un punto dentro de su hiperplano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La propuesta de 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chael Rab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pone la utilización del Algoritmo de Dispersión de Información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ado un archivo F de longitud L=|F| es dividido en n partes F</a:t>
            </a:r>
            <a:r>
              <a:rPr b="0" lang="es-E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ada una de las partes tiene una longitud de |F</a:t>
            </a:r>
            <a:r>
              <a:rPr b="0" lang="es-E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| = L/m , de tal forma que con solo tener m partes se puede recuperar F.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El tamaño de las partes en Rab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tamaño de cada una de las partes es menor a la longitud original F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omando como ejemplo un archivo de dimensión unitaria que es dividido en 3 par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dimensión de cada una de estas partes es de |F</a:t>
            </a:r>
            <a:r>
              <a:rPr b="0" lang="es-E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,2,3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|= 1/3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logra una optimización del espacio pero cada una de estas partes da información de las ot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Ejemplo Rab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a un archivo de 10,000 caracteres, el cual es dividido en 14 secre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 los 14 secretos solo se necesitan 10 para obtener el archivo original, tenemo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|F| = 10,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mensión secreto  |F|/10 = 1000 caracter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 lo cual resulta que solo requerimos de 10,000 caracteres para recuperar el archiv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mo necesitamos repartir catorce partes tenemos solo un aumento del 40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Continuando el ejempl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 total d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14,000 caracteres son divididos en 14 secretos de los cuales solo se requieren 10 secret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safortunadamente, cada uno de los secretos puede dar información de los demás secretos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 lo que este esquema puede ser usado para tolerancia a fallas, pero no podemos garantizar la confidencialidad de la inform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abin reconoce que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este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 se encuentra dentro del campo de códigos de corrección de err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El enfoque de Shami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basa en la interpolación polinomial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dos k puntos dentro de un espacio bidimensional, representados por (x</a:t>
            </a:r>
            <a:r>
              <a:rPr b="0" lang="es-E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y</a:t>
            </a:r>
            <a:r>
              <a:rPr b="0" lang="es-E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, ..., (x</a:t>
            </a:r>
            <a:r>
              <a:rPr b="0" lang="es-E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y</a:t>
            </a:r>
            <a:r>
              <a:rPr b="0" lang="es-E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 con x’s distintas, solo existe una y solo una representación polinomial q(x) de grado k-1 tal que q(x</a:t>
            </a:r>
            <a:r>
              <a:rPr b="0" lang="es-E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 = y</a:t>
            </a:r>
            <a:r>
              <a:rPr b="0" lang="es-E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para toda 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 asume que la información, o el secreto original, que va a compartirse esta representado por un número 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nteceden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s redes fueron diseñadas para el intercambio de información y compartir recurs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seguridad no era un factor tomado en cuenta en el diseño de las re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46200" y="3807000"/>
            <a:ext cx="4559400" cy="3051000"/>
            <a:chOff x="2446200" y="3807000"/>
            <a:chExt cx="4559400" cy="3051000"/>
          </a:xfrm>
        </p:grpSpPr>
        <p:sp>
          <p:nvSpPr>
            <p:cNvPr id="131" name=""/>
            <p:cNvSpPr/>
            <p:nvPr/>
          </p:nvSpPr>
          <p:spPr>
            <a:xfrm>
              <a:off x="5912640" y="3868560"/>
              <a:ext cx="7765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SUCURSALES 1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SUCURSALES 2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ASM 1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ASM 2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PROVINCIA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4836960" y="5573880"/>
              <a:ext cx="113040" cy="628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305320" y="5087880"/>
              <a:ext cx="417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12160" y="5175360"/>
              <a:ext cx="7167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SERVIDOR NT_2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24320" y="4557600"/>
              <a:ext cx="438120" cy="838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846680" y="4470120"/>
              <a:ext cx="438120" cy="9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67200" y="5529240"/>
              <a:ext cx="438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304960" y="5440320"/>
              <a:ext cx="438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44840" y="4468680"/>
              <a:ext cx="39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344840" y="4557240"/>
              <a:ext cx="397080" cy="838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867200" y="4381200"/>
              <a:ext cx="417600" cy="17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86240" y="6094440"/>
              <a:ext cx="2700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75120" y="5591160"/>
              <a:ext cx="5256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5250600" y="5049720"/>
              <a:ext cx="206280" cy="1225440"/>
              <a:chOff x="5250600" y="5049720"/>
              <a:chExt cx="206280" cy="1225440"/>
            </a:xfrm>
          </p:grpSpPr>
          <p:sp>
            <p:nvSpPr>
              <p:cNvPr id="145" name=""/>
              <p:cNvSpPr/>
              <p:nvPr/>
            </p:nvSpPr>
            <p:spPr>
              <a:xfrm>
                <a:off x="5270400" y="5049720"/>
                <a:ext cx="69480" cy="8247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50600" y="5104800"/>
                <a:ext cx="206280" cy="117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87440"/>
                    <a:tab algn="l" pos="974880"/>
                    <a:tab algn="l" pos="1461960"/>
                    <a:tab algn="l" pos="1949400"/>
                    <a:tab algn="l" pos="2436840"/>
                    <a:tab algn="l" pos="2924280"/>
                    <a:tab algn="l" pos="3411360"/>
                    <a:tab algn="l" pos="3898800"/>
                    <a:tab algn="l" pos="4386240"/>
                    <a:tab algn="l" pos="4873680"/>
                    <a:tab algn="l" pos="5361120"/>
                    <a:tab algn="l" pos="5848200"/>
                    <a:tab algn="l" pos="6335640"/>
                    <a:tab algn="l" pos="6823080"/>
                    <a:tab algn="l" pos="7310520"/>
                    <a:tab algn="l" pos="7797960"/>
                    <a:tab algn="l" pos="8285040"/>
                    <a:tab algn="l" pos="8772480"/>
                    <a:tab algn="l" pos="9259920"/>
                    <a:tab algn="l" pos="9747360"/>
                  </a:tabLst>
                </a:pP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87440"/>
                    <a:tab algn="l" pos="974880"/>
                    <a:tab algn="l" pos="1461960"/>
                    <a:tab algn="l" pos="1949400"/>
                    <a:tab algn="l" pos="2436840"/>
                    <a:tab algn="l" pos="2924280"/>
                    <a:tab algn="l" pos="3411360"/>
                    <a:tab algn="l" pos="3898800"/>
                    <a:tab algn="l" pos="4386240"/>
                    <a:tab algn="l" pos="4873680"/>
                    <a:tab algn="l" pos="5361120"/>
                    <a:tab algn="l" pos="5848200"/>
                    <a:tab algn="l" pos="6335640"/>
                    <a:tab algn="l" pos="6823080"/>
                    <a:tab algn="l" pos="7310520"/>
                    <a:tab algn="l" pos="7797960"/>
                    <a:tab algn="l" pos="8285040"/>
                    <a:tab algn="l" pos="8772480"/>
                    <a:tab algn="l" pos="9259920"/>
                    <a:tab algn="l" pos="9747360"/>
                  </a:tabLst>
                </a:pP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87440"/>
                    <a:tab algn="l" pos="974880"/>
                    <a:tab algn="l" pos="1461960"/>
                    <a:tab algn="l" pos="1949400"/>
                    <a:tab algn="l" pos="2436840"/>
                    <a:tab algn="l" pos="2924280"/>
                    <a:tab algn="l" pos="3411360"/>
                    <a:tab algn="l" pos="3898800"/>
                    <a:tab algn="l" pos="4386240"/>
                    <a:tab algn="l" pos="4873680"/>
                    <a:tab algn="l" pos="5361120"/>
                    <a:tab algn="l" pos="5848200"/>
                    <a:tab algn="l" pos="6335640"/>
                    <a:tab algn="l" pos="6823080"/>
                    <a:tab algn="l" pos="7310520"/>
                    <a:tab algn="l" pos="7797960"/>
                    <a:tab algn="l" pos="8285040"/>
                    <a:tab algn="l" pos="8772480"/>
                    <a:tab algn="l" pos="9259920"/>
                    <a:tab algn="l" pos="9747360"/>
                  </a:tabLst>
                </a:pPr>
                <a:r>
                  <a:rPr b="1" lang="es-ES_tradnl" sz="6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87440"/>
                    <a:tab algn="l" pos="974880"/>
                    <a:tab algn="l" pos="1461960"/>
                    <a:tab algn="l" pos="1949400"/>
                    <a:tab algn="l" pos="2436840"/>
                    <a:tab algn="l" pos="2924280"/>
                    <a:tab algn="l" pos="3411360"/>
                    <a:tab algn="l" pos="3898800"/>
                    <a:tab algn="l" pos="4386240"/>
                    <a:tab algn="l" pos="4873680"/>
                    <a:tab algn="l" pos="5361120"/>
                    <a:tab algn="l" pos="5848200"/>
                    <a:tab algn="l" pos="6335640"/>
                    <a:tab algn="l" pos="6823080"/>
                    <a:tab algn="l" pos="7310520"/>
                    <a:tab algn="l" pos="7797960"/>
                    <a:tab algn="l" pos="8285040"/>
                    <a:tab algn="l" pos="8772480"/>
                    <a:tab algn="l" pos="9259920"/>
                    <a:tab algn="l" pos="9747360"/>
                  </a:tabLst>
                </a:pPr>
                <a:r>
                  <a:rPr b="1" lang="es-ES_tradnl" sz="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87440"/>
                    <a:tab algn="l" pos="974880"/>
                    <a:tab algn="l" pos="1461960"/>
                    <a:tab algn="l" pos="1949400"/>
                    <a:tab algn="l" pos="2436840"/>
                    <a:tab algn="l" pos="2924280"/>
                    <a:tab algn="l" pos="3411360"/>
                    <a:tab algn="l" pos="3898800"/>
                    <a:tab algn="l" pos="4386240"/>
                    <a:tab algn="l" pos="4873680"/>
                    <a:tab algn="l" pos="5361120"/>
                    <a:tab algn="l" pos="5848200"/>
                    <a:tab algn="l" pos="6335640"/>
                    <a:tab algn="l" pos="6823080"/>
                    <a:tab algn="l" pos="7310520"/>
                    <a:tab algn="l" pos="7797960"/>
                    <a:tab algn="l" pos="8285040"/>
                    <a:tab algn="l" pos="8772480"/>
                    <a:tab algn="l" pos="9259920"/>
                    <a:tab algn="l" pos="9747360"/>
                  </a:tabLst>
                </a:pPr>
                <a:r>
                  <a:rPr b="1" lang="es-ES_tradnl" sz="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87440"/>
                    <a:tab algn="l" pos="974880"/>
                    <a:tab algn="l" pos="1461960"/>
                    <a:tab algn="l" pos="1949400"/>
                    <a:tab algn="l" pos="2436840"/>
                    <a:tab algn="l" pos="2924280"/>
                    <a:tab algn="l" pos="3411360"/>
                    <a:tab algn="l" pos="3898800"/>
                    <a:tab algn="l" pos="4386240"/>
                    <a:tab algn="l" pos="4873680"/>
                    <a:tab algn="l" pos="5361120"/>
                    <a:tab algn="l" pos="5848200"/>
                    <a:tab algn="l" pos="6335640"/>
                    <a:tab algn="l" pos="6823080"/>
                    <a:tab algn="l" pos="7310520"/>
                    <a:tab algn="l" pos="7797960"/>
                    <a:tab algn="l" pos="8285040"/>
                    <a:tab algn="l" pos="8772480"/>
                    <a:tab algn="l" pos="9259920"/>
                    <a:tab algn="l" pos="9747360"/>
                  </a:tabLst>
                </a:pPr>
                <a:r>
                  <a:rPr b="1" lang="es-ES_tradnl" sz="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87440"/>
                    <a:tab algn="l" pos="974880"/>
                    <a:tab algn="l" pos="1461960"/>
                    <a:tab algn="l" pos="1949400"/>
                    <a:tab algn="l" pos="2436840"/>
                    <a:tab algn="l" pos="2924280"/>
                    <a:tab algn="l" pos="3411360"/>
                    <a:tab algn="l" pos="3898800"/>
                    <a:tab algn="l" pos="4386240"/>
                    <a:tab algn="l" pos="4873680"/>
                    <a:tab algn="l" pos="5361120"/>
                    <a:tab algn="l" pos="5848200"/>
                    <a:tab algn="l" pos="6335640"/>
                    <a:tab algn="l" pos="6823080"/>
                    <a:tab algn="l" pos="7310520"/>
                    <a:tab algn="l" pos="7797960"/>
                    <a:tab algn="l" pos="8285040"/>
                    <a:tab algn="l" pos="8772480"/>
                    <a:tab algn="l" pos="9259920"/>
                    <a:tab algn="l" pos="9747360"/>
                  </a:tabLst>
                </a:pPr>
                <a:r>
                  <a:rPr b="1" lang="es-ES_tradnl" sz="6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87440"/>
                    <a:tab algn="l" pos="974880"/>
                    <a:tab algn="l" pos="1461960"/>
                    <a:tab algn="l" pos="1949400"/>
                    <a:tab algn="l" pos="2436840"/>
                    <a:tab algn="l" pos="2924280"/>
                    <a:tab algn="l" pos="3411360"/>
                    <a:tab algn="l" pos="3898800"/>
                    <a:tab algn="l" pos="4386240"/>
                    <a:tab algn="l" pos="4873680"/>
                    <a:tab algn="l" pos="5361120"/>
                    <a:tab algn="l" pos="5848200"/>
                    <a:tab algn="l" pos="6335640"/>
                    <a:tab algn="l" pos="6823080"/>
                    <a:tab algn="l" pos="7310520"/>
                    <a:tab algn="l" pos="7797960"/>
                    <a:tab algn="l" pos="8285040"/>
                    <a:tab algn="l" pos="8772480"/>
                    <a:tab algn="l" pos="9259920"/>
                    <a:tab algn="l" pos="9747360"/>
                  </a:tabLst>
                </a:pPr>
                <a:r>
                  <a:rPr b="1" lang="es-ES_tradnl" sz="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87440"/>
                    <a:tab algn="l" pos="974880"/>
                    <a:tab algn="l" pos="1461960"/>
                    <a:tab algn="l" pos="1949400"/>
                    <a:tab algn="l" pos="2436840"/>
                    <a:tab algn="l" pos="2924280"/>
                    <a:tab algn="l" pos="3411360"/>
                    <a:tab algn="l" pos="3898800"/>
                    <a:tab algn="l" pos="4386240"/>
                    <a:tab algn="l" pos="4873680"/>
                    <a:tab algn="l" pos="5361120"/>
                    <a:tab algn="l" pos="5848200"/>
                    <a:tab algn="l" pos="6335640"/>
                    <a:tab algn="l" pos="6823080"/>
                    <a:tab algn="l" pos="7310520"/>
                    <a:tab algn="l" pos="7797960"/>
                    <a:tab algn="l" pos="8285040"/>
                    <a:tab algn="l" pos="8772480"/>
                    <a:tab algn="l" pos="9259920"/>
                    <a:tab algn="l" pos="9747360"/>
                  </a:tabLst>
                </a:pPr>
                <a:r>
                  <a:rPr b="1" lang="es-ES_tradnl" sz="6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87440"/>
                    <a:tab algn="l" pos="974880"/>
                    <a:tab algn="l" pos="1461960"/>
                    <a:tab algn="l" pos="1949400"/>
                    <a:tab algn="l" pos="2436840"/>
                    <a:tab algn="l" pos="2924280"/>
                    <a:tab algn="l" pos="3411360"/>
                    <a:tab algn="l" pos="3898800"/>
                    <a:tab algn="l" pos="4386240"/>
                    <a:tab algn="l" pos="4873680"/>
                    <a:tab algn="l" pos="5361120"/>
                    <a:tab algn="l" pos="5848200"/>
                    <a:tab algn="l" pos="6335640"/>
                    <a:tab algn="l" pos="6823080"/>
                    <a:tab algn="l" pos="7310520"/>
                    <a:tab algn="l" pos="7797960"/>
                    <a:tab algn="l" pos="8285040"/>
                    <a:tab algn="l" pos="8772480"/>
                    <a:tab algn="l" pos="9259920"/>
                    <a:tab algn="l" pos="9747360"/>
                  </a:tabLst>
                </a:pPr>
                <a:r>
                  <a:rPr b="1" lang="es-ES_tradnl" sz="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87440"/>
                    <a:tab algn="l" pos="974880"/>
                    <a:tab algn="l" pos="1461960"/>
                    <a:tab algn="l" pos="1949400"/>
                    <a:tab algn="l" pos="2436840"/>
                    <a:tab algn="l" pos="2924280"/>
                    <a:tab algn="l" pos="3411360"/>
                    <a:tab algn="l" pos="3898800"/>
                    <a:tab algn="l" pos="4386240"/>
                    <a:tab algn="l" pos="4873680"/>
                    <a:tab algn="l" pos="5361120"/>
                    <a:tab algn="l" pos="5848200"/>
                    <a:tab algn="l" pos="6335640"/>
                    <a:tab algn="l" pos="6823080"/>
                    <a:tab algn="l" pos="7310520"/>
                    <a:tab algn="l" pos="7797960"/>
                    <a:tab algn="l" pos="8285040"/>
                    <a:tab algn="l" pos="8772480"/>
                    <a:tab algn="l" pos="9259920"/>
                    <a:tab algn="l" pos="9747360"/>
                  </a:tabLst>
                </a:pPr>
                <a:r>
                  <a:rPr b="1" lang="es-ES_tradnl" sz="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87440"/>
                    <a:tab algn="l" pos="974880"/>
                    <a:tab algn="l" pos="1461960"/>
                    <a:tab algn="l" pos="1949400"/>
                    <a:tab algn="l" pos="2436840"/>
                    <a:tab algn="l" pos="2924280"/>
                    <a:tab algn="l" pos="3411360"/>
                    <a:tab algn="l" pos="3898800"/>
                    <a:tab algn="l" pos="4386240"/>
                    <a:tab algn="l" pos="4873680"/>
                    <a:tab algn="l" pos="5361120"/>
                    <a:tab algn="l" pos="5848200"/>
                    <a:tab algn="l" pos="6335640"/>
                    <a:tab algn="l" pos="6823080"/>
                    <a:tab algn="l" pos="7310520"/>
                    <a:tab algn="l" pos="7797960"/>
                    <a:tab algn="l" pos="8285040"/>
                    <a:tab algn="l" pos="8772480"/>
                    <a:tab algn="l" pos="9259920"/>
                    <a:tab algn="l" pos="9747360"/>
                  </a:tabLst>
                </a:pPr>
                <a:r>
                  <a:rPr b="1" lang="es-ES_tradnl" sz="6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615200" y="5153040"/>
              <a:ext cx="63900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Arial"/>
                </a:rPr>
                <a:t>BOTURIN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55880" y="4265640"/>
              <a:ext cx="53388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s-ES_tradnl" sz="800" spc="-1" strike="noStrike">
                  <a:solidFill>
                    <a:srgbClr val="ffffff"/>
                  </a:solidFill>
                  <a:latin typeface="Arial"/>
                </a:rPr>
                <a:t>DLSW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89400" y="3902040"/>
              <a:ext cx="69840" cy="824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69600" y="4091040"/>
              <a:ext cx="20628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89400" y="5094360"/>
              <a:ext cx="69840" cy="8254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69600" y="5237280"/>
              <a:ext cx="20628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0160" y="5370480"/>
              <a:ext cx="5950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128.10.83.10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46880" y="5281560"/>
              <a:ext cx="36324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RE001BOS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15760" y="5016600"/>
              <a:ext cx="5950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128.10.83.11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56240" y="4883040"/>
              <a:ext cx="5414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RE001BOT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82560" y="5921280"/>
              <a:ext cx="217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73200" y="4726080"/>
              <a:ext cx="217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58240" y="5584680"/>
              <a:ext cx="7167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SERVIDOR NT_1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52400" y="4726080"/>
              <a:ext cx="217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52400" y="5870520"/>
              <a:ext cx="217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23960" y="5634000"/>
              <a:ext cx="63756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E 4/2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128.10.79.254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378320" y="552924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2120" y="5484960"/>
              <a:ext cx="29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2120" y="4424400"/>
              <a:ext cx="29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54600" y="3807000"/>
              <a:ext cx="1301760" cy="1514160"/>
            </a:xfrm>
            <a:custGeom>
              <a:avLst/>
              <a:gdLst/>
              <a:ahLst/>
              <a:rect l="l" t="t" r="r" b="b"/>
              <a:pathLst>
                <a:path w="1495" h="1646">
                  <a:moveTo>
                    <a:pt x="0" y="1645"/>
                  </a:moveTo>
                  <a:lnTo>
                    <a:pt x="299" y="0"/>
                  </a:lnTo>
                  <a:lnTo>
                    <a:pt x="1195" y="0"/>
                  </a:lnTo>
                  <a:lnTo>
                    <a:pt x="1494" y="46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408480" y="4495680"/>
              <a:ext cx="511200" cy="73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405240" y="4493880"/>
              <a:ext cx="431640" cy="60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06680" y="4540320"/>
              <a:ext cx="479520" cy="77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3406680" y="4676760"/>
              <a:ext cx="400320" cy="65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89800" y="4530600"/>
              <a:ext cx="541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imes New Roman"/>
                </a:rPr>
                <a:t>4 E1’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89800" y="5191200"/>
              <a:ext cx="541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imes New Roman"/>
                </a:rPr>
                <a:t>3 E1’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65880" y="6087960"/>
              <a:ext cx="0" cy="17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93360" y="6419880"/>
              <a:ext cx="595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Times New Roman"/>
                </a:rPr>
                <a:t>(BANXICO)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24600" y="6151680"/>
              <a:ext cx="6634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Times New Roman"/>
                </a:rPr>
                <a:t>192.100.248.98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451400" y="5586480"/>
              <a:ext cx="249120" cy="617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41840" y="6203880"/>
              <a:ext cx="9176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10360" y="6026040"/>
              <a:ext cx="1015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SEGMENTO RE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FRONTER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27400" y="4484520"/>
              <a:ext cx="3664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Times New Roman"/>
                </a:rPr>
                <a:t>MUX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406320" y="5388120"/>
              <a:ext cx="39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06680" y="4332240"/>
              <a:ext cx="39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05200" y="4529160"/>
              <a:ext cx="40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06320" y="4416480"/>
              <a:ext cx="39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09920" y="5467320"/>
              <a:ext cx="38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05200" y="5192640"/>
              <a:ext cx="417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78360" y="4452840"/>
              <a:ext cx="315720" cy="7891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006800" y="4619160"/>
              <a:ext cx="282600" cy="6937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630680" y="4370400"/>
              <a:ext cx="392040" cy="774720"/>
              <a:chOff x="4630680" y="4370400"/>
              <a:chExt cx="392040" cy="774720"/>
            </a:xfrm>
          </p:grpSpPr>
          <p:pic>
            <p:nvPicPr>
              <p:cNvPr id="18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30680" y="4370400"/>
                <a:ext cx="392040" cy="30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4706280" y="4535640"/>
                <a:ext cx="2145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1920" rIns="61920" tIns="30240" bIns="302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17520"/>
                    <a:tab algn="l" pos="635040"/>
                    <a:tab algn="l" pos="952560"/>
                    <a:tab algn="l" pos="1270080"/>
                    <a:tab algn="l" pos="1587600"/>
                    <a:tab algn="l" pos="1905120"/>
                    <a:tab algn="l" pos="2222640"/>
                    <a:tab algn="l" pos="2540160"/>
                    <a:tab algn="l" pos="2857680"/>
                    <a:tab algn="l" pos="3174840"/>
                    <a:tab algn="l" pos="3492360"/>
                    <a:tab algn="l" pos="3809880"/>
                    <a:tab algn="l" pos="4127400"/>
                    <a:tab algn="l" pos="4444920"/>
                    <a:tab algn="l" pos="4762440"/>
                    <a:tab algn="l" pos="5079960"/>
                    <a:tab algn="l" pos="5397480"/>
                    <a:tab algn="l" pos="5715000"/>
                    <a:tab algn="l" pos="6032520"/>
                    <a:tab algn="l" pos="6350040"/>
                  </a:tabLst>
                </a:pPr>
                <a:r>
                  <a:rPr b="1" lang="es-ES_tradnl" sz="900" spc="-1" strike="noStrike">
                    <a:solidFill>
                      <a:srgbClr val="ffffff"/>
                    </a:solidFill>
                    <a:latin typeface="Arial"/>
                  </a:rPr>
                  <a:t>750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773520" y="4295880"/>
              <a:ext cx="408960" cy="317160"/>
              <a:chOff x="3773520" y="4295880"/>
              <a:chExt cx="408960" cy="31716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3773520" y="4295880"/>
                <a:ext cx="304200" cy="211680"/>
                <a:chOff x="3773520" y="4295880"/>
                <a:chExt cx="304200" cy="21168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3779640" y="4305960"/>
                  <a:ext cx="298080" cy="201600"/>
                  <a:chOff x="3779640" y="4305960"/>
                  <a:chExt cx="298080" cy="20160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3779640" y="4372920"/>
                    <a:ext cx="29808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74">
                        <a:moveTo>
                          <a:pt x="0" y="0"/>
                        </a:moveTo>
                        <a:lnTo>
                          <a:pt x="341" y="0"/>
                        </a:lnTo>
                        <a:lnTo>
                          <a:pt x="341" y="73"/>
                        </a:lnTo>
                        <a:lnTo>
                          <a:pt x="0" y="7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782160" y="4380480"/>
                    <a:ext cx="295560" cy="127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782160" y="4305960"/>
                    <a:ext cx="295560" cy="126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" name=""/>
                <p:cNvSpPr/>
                <p:nvPr/>
              </p:nvSpPr>
              <p:spPr>
                <a:xfrm>
                  <a:off x="3773520" y="4362120"/>
                  <a:ext cx="297360" cy="67680"/>
                </a:xfrm>
                <a:custGeom>
                  <a:avLst/>
                  <a:gdLst/>
                  <a:ahLst/>
                  <a:rect l="l" t="t" r="r" b="b"/>
                  <a:pathLst>
                    <a:path w="341" h="74">
                      <a:moveTo>
                        <a:pt x="0" y="0"/>
                      </a:moveTo>
                      <a:lnTo>
                        <a:pt x="340" y="0"/>
                      </a:lnTo>
                      <a:lnTo>
                        <a:pt x="340" y="73"/>
                      </a:lnTo>
                      <a:lnTo>
                        <a:pt x="0" y="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776760" y="4369320"/>
                  <a:ext cx="294480" cy="1270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776760" y="4295880"/>
                  <a:ext cx="294480" cy="12708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3833640" y="4312440"/>
                  <a:ext cx="181800" cy="92160"/>
                  <a:chOff x="3833640" y="4312440"/>
                  <a:chExt cx="181800" cy="92160"/>
                </a:xfrm>
              </p:grpSpPr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3833640" y="4312440"/>
                    <a:ext cx="181800" cy="92160"/>
                    <a:chOff x="3833640" y="4312440"/>
                    <a:chExt cx="181800" cy="921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3833640" y="4312440"/>
                      <a:ext cx="774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36">
                          <a:moveTo>
                            <a:pt x="0" y="7"/>
                          </a:moveTo>
                          <a:lnTo>
                            <a:pt x="21" y="0"/>
                          </a:lnTo>
                          <a:lnTo>
                            <a:pt x="67" y="19"/>
                          </a:lnTo>
                          <a:lnTo>
                            <a:pt x="88" y="13"/>
                          </a:lnTo>
                          <a:lnTo>
                            <a:pt x="82" y="35"/>
                          </a:lnTo>
                          <a:lnTo>
                            <a:pt x="21" y="35"/>
                          </a:lnTo>
                          <a:lnTo>
                            <a:pt x="48" y="28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3833640" y="4312440"/>
                      <a:ext cx="774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36">
                          <a:moveTo>
                            <a:pt x="0" y="7"/>
                          </a:moveTo>
                          <a:lnTo>
                            <a:pt x="21" y="0"/>
                          </a:lnTo>
                          <a:lnTo>
                            <a:pt x="67" y="19"/>
                          </a:lnTo>
                          <a:lnTo>
                            <a:pt x="88" y="13"/>
                          </a:lnTo>
                          <a:lnTo>
                            <a:pt x="82" y="35"/>
                          </a:lnTo>
                          <a:lnTo>
                            <a:pt x="21" y="35"/>
                          </a:lnTo>
                          <a:lnTo>
                            <a:pt x="48" y="28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3933720" y="4375440"/>
                      <a:ext cx="81720" cy="2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32">
                          <a:moveTo>
                            <a:pt x="93" y="25"/>
                          </a:moveTo>
                          <a:lnTo>
                            <a:pt x="70" y="31"/>
                          </a:lnTo>
                          <a:lnTo>
                            <a:pt x="22" y="16"/>
                          </a:lnTo>
                          <a:lnTo>
                            <a:pt x="0" y="25"/>
                          </a:lnTo>
                          <a:lnTo>
                            <a:pt x="6" y="0"/>
                          </a:lnTo>
                          <a:lnTo>
                            <a:pt x="70" y="0"/>
                          </a:lnTo>
                          <a:lnTo>
                            <a:pt x="47" y="9"/>
                          </a:lnTo>
                          <a:lnTo>
                            <a:pt x="93" y="25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3933720" y="4375440"/>
                      <a:ext cx="81720" cy="2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32">
                          <a:moveTo>
                            <a:pt x="93" y="25"/>
                          </a:moveTo>
                          <a:lnTo>
                            <a:pt x="70" y="31"/>
                          </a:lnTo>
                          <a:lnTo>
                            <a:pt x="22" y="16"/>
                          </a:lnTo>
                          <a:lnTo>
                            <a:pt x="0" y="25"/>
                          </a:lnTo>
                          <a:lnTo>
                            <a:pt x="6" y="0"/>
                          </a:lnTo>
                          <a:lnTo>
                            <a:pt x="70" y="0"/>
                          </a:lnTo>
                          <a:lnTo>
                            <a:pt x="47" y="9"/>
                          </a:lnTo>
                          <a:lnTo>
                            <a:pt x="93" y="25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6" name=""/>
                  <p:cNvGrpSpPr/>
                  <p:nvPr/>
                </p:nvGrpSpPr>
                <p:grpSpPr>
                  <a:xfrm>
                    <a:off x="3838680" y="4312440"/>
                    <a:ext cx="169200" cy="92160"/>
                    <a:chOff x="3838680" y="4312440"/>
                    <a:chExt cx="169200" cy="92160"/>
                  </a:xfrm>
                </p:grpSpPr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3927240" y="4312440"/>
                      <a:ext cx="806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36">
                          <a:moveTo>
                            <a:pt x="0" y="28"/>
                          </a:moveTo>
                          <a:lnTo>
                            <a:pt x="21" y="35"/>
                          </a:lnTo>
                          <a:lnTo>
                            <a:pt x="67" y="13"/>
                          </a:lnTo>
                          <a:lnTo>
                            <a:pt x="92" y="19"/>
                          </a:lnTo>
                          <a:lnTo>
                            <a:pt x="83" y="0"/>
                          </a:lnTo>
                          <a:lnTo>
                            <a:pt x="21" y="0"/>
                          </a:lnTo>
                          <a:lnTo>
                            <a:pt x="53" y="7"/>
                          </a:lnTo>
                          <a:lnTo>
                            <a:pt x="0" y="28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3927240" y="4312440"/>
                      <a:ext cx="806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36">
                          <a:moveTo>
                            <a:pt x="0" y="28"/>
                          </a:moveTo>
                          <a:lnTo>
                            <a:pt x="21" y="35"/>
                          </a:lnTo>
                          <a:lnTo>
                            <a:pt x="67" y="13"/>
                          </a:lnTo>
                          <a:lnTo>
                            <a:pt x="92" y="19"/>
                          </a:lnTo>
                          <a:lnTo>
                            <a:pt x="83" y="0"/>
                          </a:lnTo>
                          <a:lnTo>
                            <a:pt x="21" y="0"/>
                          </a:lnTo>
                          <a:lnTo>
                            <a:pt x="53" y="7"/>
                          </a:lnTo>
                          <a:lnTo>
                            <a:pt x="0" y="28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3838680" y="4368960"/>
                      <a:ext cx="7740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39">
                          <a:moveTo>
                            <a:pt x="88" y="6"/>
                          </a:moveTo>
                          <a:lnTo>
                            <a:pt x="67" y="0"/>
                          </a:lnTo>
                          <a:lnTo>
                            <a:pt x="21" y="22"/>
                          </a:lnTo>
                          <a:lnTo>
                            <a:pt x="0" y="16"/>
                          </a:lnTo>
                          <a:lnTo>
                            <a:pt x="7" y="38"/>
                          </a:lnTo>
                          <a:lnTo>
                            <a:pt x="67" y="38"/>
                          </a:lnTo>
                          <a:lnTo>
                            <a:pt x="40" y="32"/>
                          </a:lnTo>
                          <a:lnTo>
                            <a:pt x="88" y="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3838680" y="4368960"/>
                      <a:ext cx="7740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39">
                          <a:moveTo>
                            <a:pt x="88" y="6"/>
                          </a:moveTo>
                          <a:lnTo>
                            <a:pt x="67" y="0"/>
                          </a:lnTo>
                          <a:lnTo>
                            <a:pt x="21" y="22"/>
                          </a:lnTo>
                          <a:lnTo>
                            <a:pt x="0" y="16"/>
                          </a:lnTo>
                          <a:lnTo>
                            <a:pt x="7" y="38"/>
                          </a:lnTo>
                          <a:lnTo>
                            <a:pt x="67" y="38"/>
                          </a:lnTo>
                          <a:lnTo>
                            <a:pt x="40" y="32"/>
                          </a:lnTo>
                          <a:lnTo>
                            <a:pt x="88" y="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11" name=""/>
              <p:cNvSpPr/>
              <p:nvPr/>
            </p:nvSpPr>
            <p:spPr>
              <a:xfrm>
                <a:off x="3809880" y="4398840"/>
                <a:ext cx="3726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800" spc="-1" strike="noStrike">
                    <a:solidFill>
                      <a:srgbClr val="ffffff"/>
                    </a:solidFill>
                    <a:latin typeface="Arial"/>
                  </a:rPr>
                  <a:t>IBM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206160" y="4221000"/>
              <a:ext cx="281160" cy="638280"/>
              <a:chOff x="3206160" y="4221000"/>
              <a:chExt cx="281160" cy="638280"/>
            </a:xfrm>
          </p:grpSpPr>
          <p:sp>
            <p:nvSpPr>
              <p:cNvPr id="213" name=""/>
              <p:cNvSpPr/>
              <p:nvPr/>
            </p:nvSpPr>
            <p:spPr>
              <a:xfrm flipH="1" rot="16200000">
                <a:off x="3020040" y="4471920"/>
                <a:ext cx="628920" cy="127080"/>
              </a:xfrm>
              <a:prstGeom prst="triangle">
                <a:avLst>
                  <a:gd name="adj" fmla="val 49986"/>
                </a:avLst>
              </a:prstGeom>
              <a:solidFill>
                <a:srgbClr val="0000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06160" y="4401720"/>
                <a:ext cx="2811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8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8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8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3218760" y="4905360"/>
              <a:ext cx="386280" cy="630360"/>
              <a:chOff x="3218760" y="4905360"/>
              <a:chExt cx="386280" cy="630360"/>
            </a:xfrm>
          </p:grpSpPr>
          <p:sp>
            <p:nvSpPr>
              <p:cNvPr id="216" name=""/>
              <p:cNvSpPr/>
              <p:nvPr/>
            </p:nvSpPr>
            <p:spPr>
              <a:xfrm>
                <a:off x="3238560" y="5178240"/>
                <a:ext cx="3664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600" spc="-1" strike="noStrike">
                    <a:solidFill>
                      <a:srgbClr val="ffffff"/>
                    </a:solidFill>
                    <a:latin typeface="Times New Roman"/>
                  </a:rPr>
                  <a:t>MUX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rot="16200000">
                <a:off x="3023640" y="5156640"/>
                <a:ext cx="628920" cy="126360"/>
              </a:xfrm>
              <a:prstGeom prst="triangle">
                <a:avLst>
                  <a:gd name="adj" fmla="val 49986"/>
                </a:avLst>
              </a:prstGeom>
              <a:solidFill>
                <a:srgbClr val="0000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218760" y="5078160"/>
                <a:ext cx="2811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8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8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8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3776760" y="5284800"/>
              <a:ext cx="407520" cy="317160"/>
              <a:chOff x="3776760" y="5284800"/>
              <a:chExt cx="407520" cy="31716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776760" y="5284800"/>
                <a:ext cx="303480" cy="211320"/>
                <a:chOff x="3776760" y="5284800"/>
                <a:chExt cx="303480" cy="21132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3782520" y="5294520"/>
                  <a:ext cx="297720" cy="201600"/>
                  <a:chOff x="3782520" y="5294520"/>
                  <a:chExt cx="297720" cy="20160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3782520" y="5361480"/>
                    <a:ext cx="29772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74">
                        <a:moveTo>
                          <a:pt x="0" y="0"/>
                        </a:moveTo>
                        <a:lnTo>
                          <a:pt x="341" y="0"/>
                        </a:lnTo>
                        <a:lnTo>
                          <a:pt x="341" y="73"/>
                        </a:lnTo>
                        <a:lnTo>
                          <a:pt x="0" y="7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785040" y="5369040"/>
                    <a:ext cx="294840" cy="127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785040" y="5294520"/>
                    <a:ext cx="294840" cy="127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3776760" y="5350680"/>
                  <a:ext cx="296640" cy="68040"/>
                </a:xfrm>
                <a:custGeom>
                  <a:avLst/>
                  <a:gdLst/>
                  <a:ahLst/>
                  <a:rect l="l" t="t" r="r" b="b"/>
                  <a:pathLst>
                    <a:path w="341" h="74">
                      <a:moveTo>
                        <a:pt x="0" y="0"/>
                      </a:moveTo>
                      <a:lnTo>
                        <a:pt x="340" y="0"/>
                      </a:lnTo>
                      <a:lnTo>
                        <a:pt x="340" y="73"/>
                      </a:lnTo>
                      <a:lnTo>
                        <a:pt x="0" y="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780000" y="5358240"/>
                  <a:ext cx="294480" cy="12672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780000" y="5284800"/>
                  <a:ext cx="294480" cy="12672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" name=""/>
                <p:cNvGrpSpPr/>
                <p:nvPr/>
              </p:nvGrpSpPr>
              <p:grpSpPr>
                <a:xfrm>
                  <a:off x="3836520" y="5301000"/>
                  <a:ext cx="181800" cy="92880"/>
                  <a:chOff x="3836520" y="5301000"/>
                  <a:chExt cx="181800" cy="92880"/>
                </a:xfrm>
              </p:grpSpPr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3836520" y="5301000"/>
                    <a:ext cx="181800" cy="92880"/>
                    <a:chOff x="3836520" y="5301000"/>
                    <a:chExt cx="181800" cy="92880"/>
                  </a:xfrm>
                </p:grpSpPr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3836520" y="5301000"/>
                      <a:ext cx="7740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36">
                          <a:moveTo>
                            <a:pt x="0" y="7"/>
                          </a:moveTo>
                          <a:lnTo>
                            <a:pt x="21" y="0"/>
                          </a:lnTo>
                          <a:lnTo>
                            <a:pt x="67" y="19"/>
                          </a:lnTo>
                          <a:lnTo>
                            <a:pt x="88" y="13"/>
                          </a:lnTo>
                          <a:lnTo>
                            <a:pt x="82" y="35"/>
                          </a:lnTo>
                          <a:lnTo>
                            <a:pt x="21" y="35"/>
                          </a:lnTo>
                          <a:lnTo>
                            <a:pt x="48" y="28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3836520" y="5301000"/>
                      <a:ext cx="7740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36">
                          <a:moveTo>
                            <a:pt x="0" y="7"/>
                          </a:moveTo>
                          <a:lnTo>
                            <a:pt x="21" y="0"/>
                          </a:lnTo>
                          <a:lnTo>
                            <a:pt x="67" y="19"/>
                          </a:lnTo>
                          <a:lnTo>
                            <a:pt x="88" y="13"/>
                          </a:lnTo>
                          <a:lnTo>
                            <a:pt x="82" y="35"/>
                          </a:lnTo>
                          <a:lnTo>
                            <a:pt x="21" y="35"/>
                          </a:lnTo>
                          <a:lnTo>
                            <a:pt x="48" y="28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3936600" y="5364360"/>
                      <a:ext cx="81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32">
                          <a:moveTo>
                            <a:pt x="93" y="25"/>
                          </a:moveTo>
                          <a:lnTo>
                            <a:pt x="70" y="31"/>
                          </a:lnTo>
                          <a:lnTo>
                            <a:pt x="22" y="16"/>
                          </a:lnTo>
                          <a:lnTo>
                            <a:pt x="0" y="25"/>
                          </a:lnTo>
                          <a:lnTo>
                            <a:pt x="6" y="0"/>
                          </a:lnTo>
                          <a:lnTo>
                            <a:pt x="70" y="0"/>
                          </a:lnTo>
                          <a:lnTo>
                            <a:pt x="47" y="9"/>
                          </a:lnTo>
                          <a:lnTo>
                            <a:pt x="93" y="25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3936600" y="5364360"/>
                      <a:ext cx="81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32">
                          <a:moveTo>
                            <a:pt x="93" y="25"/>
                          </a:moveTo>
                          <a:lnTo>
                            <a:pt x="70" y="31"/>
                          </a:lnTo>
                          <a:lnTo>
                            <a:pt x="22" y="16"/>
                          </a:lnTo>
                          <a:lnTo>
                            <a:pt x="0" y="25"/>
                          </a:lnTo>
                          <a:lnTo>
                            <a:pt x="6" y="0"/>
                          </a:lnTo>
                          <a:lnTo>
                            <a:pt x="70" y="0"/>
                          </a:lnTo>
                          <a:lnTo>
                            <a:pt x="47" y="9"/>
                          </a:lnTo>
                          <a:lnTo>
                            <a:pt x="93" y="25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841560" y="5301000"/>
                    <a:ext cx="169200" cy="92520"/>
                    <a:chOff x="3841560" y="5301000"/>
                    <a:chExt cx="169200" cy="925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3930120" y="5301000"/>
                      <a:ext cx="806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36">
                          <a:moveTo>
                            <a:pt x="0" y="28"/>
                          </a:moveTo>
                          <a:lnTo>
                            <a:pt x="21" y="35"/>
                          </a:lnTo>
                          <a:lnTo>
                            <a:pt x="67" y="13"/>
                          </a:lnTo>
                          <a:lnTo>
                            <a:pt x="92" y="19"/>
                          </a:lnTo>
                          <a:lnTo>
                            <a:pt x="83" y="0"/>
                          </a:lnTo>
                          <a:lnTo>
                            <a:pt x="21" y="0"/>
                          </a:lnTo>
                          <a:lnTo>
                            <a:pt x="53" y="7"/>
                          </a:lnTo>
                          <a:lnTo>
                            <a:pt x="0" y="28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3930120" y="5301000"/>
                      <a:ext cx="806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36">
                          <a:moveTo>
                            <a:pt x="0" y="28"/>
                          </a:moveTo>
                          <a:lnTo>
                            <a:pt x="21" y="35"/>
                          </a:lnTo>
                          <a:lnTo>
                            <a:pt x="67" y="13"/>
                          </a:lnTo>
                          <a:lnTo>
                            <a:pt x="92" y="19"/>
                          </a:lnTo>
                          <a:lnTo>
                            <a:pt x="83" y="0"/>
                          </a:lnTo>
                          <a:lnTo>
                            <a:pt x="21" y="0"/>
                          </a:lnTo>
                          <a:lnTo>
                            <a:pt x="53" y="7"/>
                          </a:lnTo>
                          <a:lnTo>
                            <a:pt x="0" y="28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3841560" y="5357880"/>
                      <a:ext cx="7740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39">
                          <a:moveTo>
                            <a:pt x="88" y="6"/>
                          </a:moveTo>
                          <a:lnTo>
                            <a:pt x="67" y="0"/>
                          </a:lnTo>
                          <a:lnTo>
                            <a:pt x="21" y="22"/>
                          </a:lnTo>
                          <a:lnTo>
                            <a:pt x="0" y="16"/>
                          </a:lnTo>
                          <a:lnTo>
                            <a:pt x="7" y="38"/>
                          </a:lnTo>
                          <a:lnTo>
                            <a:pt x="67" y="38"/>
                          </a:lnTo>
                          <a:lnTo>
                            <a:pt x="40" y="32"/>
                          </a:lnTo>
                          <a:lnTo>
                            <a:pt x="88" y="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3841560" y="5357880"/>
                      <a:ext cx="7740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39">
                          <a:moveTo>
                            <a:pt x="88" y="6"/>
                          </a:moveTo>
                          <a:lnTo>
                            <a:pt x="67" y="0"/>
                          </a:lnTo>
                          <a:lnTo>
                            <a:pt x="21" y="22"/>
                          </a:lnTo>
                          <a:lnTo>
                            <a:pt x="0" y="16"/>
                          </a:lnTo>
                          <a:lnTo>
                            <a:pt x="7" y="38"/>
                          </a:lnTo>
                          <a:lnTo>
                            <a:pt x="67" y="38"/>
                          </a:lnTo>
                          <a:lnTo>
                            <a:pt x="40" y="32"/>
                          </a:lnTo>
                          <a:lnTo>
                            <a:pt x="88" y="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39" name=""/>
              <p:cNvSpPr/>
              <p:nvPr/>
            </p:nvSpPr>
            <p:spPr>
              <a:xfrm>
                <a:off x="3811680" y="5387760"/>
                <a:ext cx="3726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800" spc="-1" strike="noStrike">
                    <a:solidFill>
                      <a:srgbClr val="ffffff"/>
                    </a:solidFill>
                    <a:latin typeface="Arial"/>
                  </a:rPr>
                  <a:t>IBM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3524400" y="4162320"/>
              <a:ext cx="622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imes New Roman"/>
                </a:rPr>
                <a:t>2216 (3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33840" y="5505480"/>
              <a:ext cx="622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imes New Roman"/>
                </a:rPr>
                <a:t>2216 (4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10360" y="4116240"/>
              <a:ext cx="1774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97400" y="4248000"/>
              <a:ext cx="249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97400" y="4336920"/>
              <a:ext cx="333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97400" y="4424400"/>
              <a:ext cx="41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7400" y="4513320"/>
              <a:ext cx="54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70400" y="3902040"/>
              <a:ext cx="69840" cy="824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52400" y="4133880"/>
              <a:ext cx="2109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87440"/>
                  <a:tab algn="l" pos="974880"/>
                  <a:tab algn="l" pos="1461960"/>
                  <a:tab algn="l" pos="1949400"/>
                  <a:tab algn="l" pos="2436840"/>
                  <a:tab algn="l" pos="2924280"/>
                  <a:tab algn="l" pos="3411360"/>
                  <a:tab algn="l" pos="3898800"/>
                  <a:tab algn="l" pos="4386240"/>
                  <a:tab algn="l" pos="4873680"/>
                  <a:tab algn="l" pos="5361120"/>
                  <a:tab algn="l" pos="5848200"/>
                  <a:tab algn="l" pos="6335640"/>
                  <a:tab algn="l" pos="6823080"/>
                  <a:tab algn="l" pos="7310520"/>
                  <a:tab algn="l" pos="7797960"/>
                  <a:tab algn="l" pos="8285040"/>
                  <a:tab algn="l" pos="8772480"/>
                  <a:tab algn="l" pos="9259920"/>
                  <a:tab algn="l" pos="974736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5407200" y="3976560"/>
              <a:ext cx="725400" cy="1038240"/>
              <a:chOff x="5407200" y="3976560"/>
              <a:chExt cx="725400" cy="103824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5407200" y="3976560"/>
                <a:ext cx="391680" cy="773280"/>
                <a:chOff x="5407200" y="3976560"/>
                <a:chExt cx="391680" cy="773280"/>
              </a:xfrm>
            </p:grpSpPr>
            <p:pic>
              <p:nvPicPr>
                <p:cNvPr id="25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07200" y="3976560"/>
                  <a:ext cx="391680" cy="30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2" name=""/>
                <p:cNvSpPr/>
                <p:nvPr/>
              </p:nvSpPr>
              <p:spPr>
                <a:xfrm>
                  <a:off x="5483520" y="4140360"/>
                  <a:ext cx="2116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1920" rIns="61920" tIns="30240" bIns="302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317520"/>
                      <a:tab algn="l" pos="635040"/>
                      <a:tab algn="l" pos="952560"/>
                      <a:tab algn="l" pos="1270080"/>
                      <a:tab algn="l" pos="1587600"/>
                      <a:tab algn="l" pos="1905120"/>
                      <a:tab algn="l" pos="2222640"/>
                      <a:tab algn="l" pos="2540160"/>
                      <a:tab algn="l" pos="2857680"/>
                      <a:tab algn="l" pos="3174840"/>
                      <a:tab algn="l" pos="3492360"/>
                      <a:tab algn="l" pos="3809880"/>
                      <a:tab algn="l" pos="4127400"/>
                      <a:tab algn="l" pos="4444920"/>
                      <a:tab algn="l" pos="4762440"/>
                      <a:tab algn="l" pos="5079960"/>
                      <a:tab algn="l" pos="5397480"/>
                      <a:tab algn="l" pos="5715000"/>
                      <a:tab algn="l" pos="6032520"/>
                      <a:tab algn="l" pos="6350040"/>
                    </a:tabLst>
                  </a:pPr>
                  <a:r>
                    <a:rPr b="1" lang="es-ES_tradnl" sz="900" spc="-1" strike="noStrike">
                      <a:solidFill>
                        <a:srgbClr val="ffffff"/>
                      </a:solidFill>
                      <a:latin typeface="Arial"/>
                    </a:rPr>
                    <a:t>750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5490720" y="4064760"/>
                <a:ext cx="391680" cy="772200"/>
                <a:chOff x="5490720" y="4064760"/>
                <a:chExt cx="391680" cy="772200"/>
              </a:xfrm>
            </p:grpSpPr>
            <p:pic>
              <p:nvPicPr>
                <p:cNvPr id="2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490720" y="4064760"/>
                  <a:ext cx="391680" cy="30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5" name=""/>
                <p:cNvSpPr/>
                <p:nvPr/>
              </p:nvSpPr>
              <p:spPr>
                <a:xfrm>
                  <a:off x="5568840" y="4227480"/>
                  <a:ext cx="2109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1920" rIns="61920" tIns="30240" bIns="302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317520"/>
                      <a:tab algn="l" pos="635040"/>
                      <a:tab algn="l" pos="952560"/>
                      <a:tab algn="l" pos="1270080"/>
                      <a:tab algn="l" pos="1587600"/>
                      <a:tab algn="l" pos="1905120"/>
                      <a:tab algn="l" pos="2222640"/>
                      <a:tab algn="l" pos="2540160"/>
                      <a:tab algn="l" pos="2857680"/>
                      <a:tab algn="l" pos="3174840"/>
                      <a:tab algn="l" pos="3492360"/>
                      <a:tab algn="l" pos="3809880"/>
                      <a:tab algn="l" pos="4127400"/>
                      <a:tab algn="l" pos="4444920"/>
                      <a:tab algn="l" pos="4762440"/>
                      <a:tab algn="l" pos="5079960"/>
                      <a:tab algn="l" pos="5397480"/>
                      <a:tab algn="l" pos="5715000"/>
                      <a:tab algn="l" pos="6032520"/>
                      <a:tab algn="l" pos="6350040"/>
                    </a:tabLst>
                  </a:pPr>
                  <a:r>
                    <a:rPr b="1" lang="es-ES_tradnl" sz="900" spc="-1" strike="noStrike">
                      <a:solidFill>
                        <a:srgbClr val="ffffff"/>
                      </a:solidFill>
                      <a:latin typeface="Arial"/>
                    </a:rPr>
                    <a:t>750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5573880" y="4152960"/>
                <a:ext cx="391680" cy="772200"/>
                <a:chOff x="5573880" y="4152960"/>
                <a:chExt cx="391680" cy="772200"/>
              </a:xfrm>
            </p:grpSpPr>
            <p:pic>
              <p:nvPicPr>
                <p:cNvPr id="25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573880" y="4152960"/>
                  <a:ext cx="391680" cy="30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8" name=""/>
                <p:cNvSpPr/>
                <p:nvPr/>
              </p:nvSpPr>
              <p:spPr>
                <a:xfrm>
                  <a:off x="5649480" y="4315680"/>
                  <a:ext cx="2142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1920" rIns="61920" tIns="30240" bIns="302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317520"/>
                      <a:tab algn="l" pos="635040"/>
                      <a:tab algn="l" pos="952560"/>
                      <a:tab algn="l" pos="1270080"/>
                      <a:tab algn="l" pos="1587600"/>
                      <a:tab algn="l" pos="1905120"/>
                      <a:tab algn="l" pos="2222640"/>
                      <a:tab algn="l" pos="2540160"/>
                      <a:tab algn="l" pos="2857680"/>
                      <a:tab algn="l" pos="3174840"/>
                      <a:tab algn="l" pos="3492360"/>
                      <a:tab algn="l" pos="3809880"/>
                      <a:tab algn="l" pos="4127400"/>
                      <a:tab algn="l" pos="4444920"/>
                      <a:tab algn="l" pos="4762440"/>
                      <a:tab algn="l" pos="5079960"/>
                      <a:tab algn="l" pos="5397480"/>
                      <a:tab algn="l" pos="5715000"/>
                      <a:tab algn="l" pos="6032520"/>
                      <a:tab algn="l" pos="6350040"/>
                    </a:tabLst>
                  </a:pPr>
                  <a:r>
                    <a:rPr b="1" lang="es-ES_tradnl" sz="900" spc="-1" strike="noStrike">
                      <a:solidFill>
                        <a:srgbClr val="ffffff"/>
                      </a:solidFill>
                      <a:latin typeface="Arial"/>
                    </a:rPr>
                    <a:t>750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657400" y="4241520"/>
                <a:ext cx="391680" cy="773280"/>
                <a:chOff x="5657400" y="4241520"/>
                <a:chExt cx="391680" cy="773280"/>
              </a:xfrm>
            </p:grpSpPr>
            <p:pic>
              <p:nvPicPr>
                <p:cNvPr id="2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657400" y="4241520"/>
                  <a:ext cx="391680" cy="30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1" name=""/>
                <p:cNvSpPr/>
                <p:nvPr/>
              </p:nvSpPr>
              <p:spPr>
                <a:xfrm>
                  <a:off x="5733720" y="4405320"/>
                  <a:ext cx="2127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1920" rIns="61920" tIns="30240" bIns="302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317520"/>
                      <a:tab algn="l" pos="635040"/>
                      <a:tab algn="l" pos="952560"/>
                      <a:tab algn="l" pos="1270080"/>
                      <a:tab algn="l" pos="1587600"/>
                      <a:tab algn="l" pos="1905120"/>
                      <a:tab algn="l" pos="2222640"/>
                      <a:tab algn="l" pos="2540160"/>
                      <a:tab algn="l" pos="2857680"/>
                      <a:tab algn="l" pos="3174840"/>
                      <a:tab algn="l" pos="3492360"/>
                      <a:tab algn="l" pos="3809880"/>
                      <a:tab algn="l" pos="4127400"/>
                      <a:tab algn="l" pos="4444920"/>
                      <a:tab algn="l" pos="4762440"/>
                      <a:tab algn="l" pos="5079960"/>
                      <a:tab algn="l" pos="5397480"/>
                      <a:tab algn="l" pos="5715000"/>
                      <a:tab algn="l" pos="6032520"/>
                      <a:tab algn="l" pos="6350040"/>
                    </a:tabLst>
                  </a:pPr>
                  <a:r>
                    <a:rPr b="1" lang="es-ES_tradnl" sz="900" spc="-1" strike="noStrike">
                      <a:solidFill>
                        <a:srgbClr val="ffffff"/>
                      </a:solidFill>
                      <a:latin typeface="Arial"/>
                    </a:rPr>
                    <a:t>750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5740920" y="4329720"/>
                <a:ext cx="391680" cy="587520"/>
                <a:chOff x="5740920" y="4329720"/>
                <a:chExt cx="391680" cy="587520"/>
              </a:xfrm>
            </p:grpSpPr>
            <p:pic>
              <p:nvPicPr>
                <p:cNvPr id="26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740920" y="4329720"/>
                  <a:ext cx="391680" cy="30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4" name=""/>
                <p:cNvSpPr/>
                <p:nvPr/>
              </p:nvSpPr>
              <p:spPr>
                <a:xfrm>
                  <a:off x="5816160" y="4492440"/>
                  <a:ext cx="212760" cy="42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1920" rIns="61920" tIns="30240" bIns="302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317520"/>
                      <a:tab algn="l" pos="635040"/>
                      <a:tab algn="l" pos="952560"/>
                      <a:tab algn="l" pos="1270080"/>
                      <a:tab algn="l" pos="1587600"/>
                      <a:tab algn="l" pos="1905120"/>
                      <a:tab algn="l" pos="2222640"/>
                      <a:tab algn="l" pos="2540160"/>
                      <a:tab algn="l" pos="2857680"/>
                      <a:tab algn="l" pos="3174840"/>
                      <a:tab algn="l" pos="3492360"/>
                      <a:tab algn="l" pos="3809880"/>
                      <a:tab algn="l" pos="4127400"/>
                      <a:tab algn="l" pos="4444920"/>
                      <a:tab algn="l" pos="4762440"/>
                      <a:tab algn="l" pos="5079960"/>
                      <a:tab algn="l" pos="5397480"/>
                      <a:tab algn="l" pos="5715000"/>
                      <a:tab algn="l" pos="6032520"/>
                      <a:tab algn="l" pos="635004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65" name="" descr=""/>
            <p:cNvPicPr/>
            <p:nvPr/>
          </p:nvPicPr>
          <p:blipFill>
            <a:blip r:embed="rId7"/>
            <a:stretch/>
          </p:blipFill>
          <p:spPr>
            <a:xfrm>
              <a:off x="5576760" y="4957920"/>
              <a:ext cx="27792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8"/>
            <a:stretch/>
          </p:blipFill>
          <p:spPr>
            <a:xfrm>
              <a:off x="5591160" y="5370480"/>
              <a:ext cx="276120" cy="219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7" name=""/>
            <p:cNvGrpSpPr/>
            <p:nvPr/>
          </p:nvGrpSpPr>
          <p:grpSpPr>
            <a:xfrm>
              <a:off x="4584600" y="5367240"/>
              <a:ext cx="392040" cy="772200"/>
              <a:chOff x="4584600" y="5367240"/>
              <a:chExt cx="392040" cy="772200"/>
            </a:xfrm>
          </p:grpSpPr>
          <p:pic>
            <p:nvPicPr>
              <p:cNvPr id="26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584600" y="5367240"/>
                <a:ext cx="392040" cy="30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>
                <a:off x="4662000" y="5529960"/>
                <a:ext cx="2127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1920" rIns="61920" tIns="30240" bIns="302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17520"/>
                    <a:tab algn="l" pos="635040"/>
                    <a:tab algn="l" pos="952560"/>
                    <a:tab algn="l" pos="1270080"/>
                    <a:tab algn="l" pos="1587600"/>
                    <a:tab algn="l" pos="1905120"/>
                    <a:tab algn="l" pos="2222640"/>
                    <a:tab algn="l" pos="2540160"/>
                    <a:tab algn="l" pos="2857680"/>
                    <a:tab algn="l" pos="3174840"/>
                    <a:tab algn="l" pos="3492360"/>
                    <a:tab algn="l" pos="3809880"/>
                    <a:tab algn="l" pos="4127400"/>
                    <a:tab algn="l" pos="4444920"/>
                    <a:tab algn="l" pos="4762440"/>
                    <a:tab algn="l" pos="5079960"/>
                    <a:tab algn="l" pos="5397480"/>
                    <a:tab algn="l" pos="5715000"/>
                    <a:tab algn="l" pos="6032520"/>
                    <a:tab algn="l" pos="6350040"/>
                  </a:tabLst>
                </a:pPr>
                <a:r>
                  <a:rPr b="1" lang="es-ES_tradnl" sz="900" spc="-1" strike="noStrike">
                    <a:solidFill>
                      <a:srgbClr val="ffffff"/>
                    </a:solidFill>
                    <a:latin typeface="Arial"/>
                  </a:rPr>
                  <a:t>750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304240" y="6227640"/>
              <a:ext cx="643680" cy="297000"/>
              <a:chOff x="5304240" y="6227640"/>
              <a:chExt cx="643680" cy="29700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5333040" y="6227640"/>
                <a:ext cx="266400" cy="205560"/>
                <a:chOff x="5333040" y="6227640"/>
                <a:chExt cx="266400" cy="205560"/>
              </a:xfrm>
            </p:grpSpPr>
            <p:grpSp>
              <p:nvGrpSpPr>
                <p:cNvPr id="272" name=""/>
                <p:cNvGrpSpPr/>
                <p:nvPr/>
              </p:nvGrpSpPr>
              <p:grpSpPr>
                <a:xfrm>
                  <a:off x="5338080" y="6237720"/>
                  <a:ext cx="261360" cy="195480"/>
                  <a:chOff x="5338080" y="6237720"/>
                  <a:chExt cx="261360" cy="19548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5338080" y="6302880"/>
                    <a:ext cx="2613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1" h="72">
                        <a:moveTo>
                          <a:pt x="0" y="0"/>
                        </a:moveTo>
                        <a:lnTo>
                          <a:pt x="300" y="0"/>
                        </a:lnTo>
                        <a:lnTo>
                          <a:pt x="300" y="71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5340600" y="6310080"/>
                    <a:ext cx="258840" cy="123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5340600" y="6237720"/>
                    <a:ext cx="258840" cy="123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>
                  <a:off x="5333040" y="6292080"/>
                  <a:ext cx="260280" cy="66240"/>
                </a:xfrm>
                <a:custGeom>
                  <a:avLst/>
                  <a:gdLst/>
                  <a:ahLst/>
                  <a:rect l="l" t="t" r="r" b="b"/>
                  <a:pathLst>
                    <a:path w="300" h="72">
                      <a:moveTo>
                        <a:pt x="0" y="0"/>
                      </a:moveTo>
                      <a:lnTo>
                        <a:pt x="299" y="0"/>
                      </a:lnTo>
                      <a:lnTo>
                        <a:pt x="299" y="71"/>
                      </a:lnTo>
                      <a:lnTo>
                        <a:pt x="0" y="7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336280" y="6299280"/>
                  <a:ext cx="257760" cy="12420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336280" y="6227640"/>
                  <a:ext cx="257760" cy="12420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5385960" y="6244200"/>
                  <a:ext cx="158760" cy="90000"/>
                  <a:chOff x="5385960" y="6244200"/>
                  <a:chExt cx="158760" cy="90000"/>
                </a:xfrm>
              </p:grpSpPr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5385960" y="6244200"/>
                    <a:ext cx="158760" cy="90000"/>
                    <a:chOff x="5385960" y="6244200"/>
                    <a:chExt cx="158760" cy="9000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85960" y="6244200"/>
                      <a:ext cx="67320" cy="3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35">
                          <a:moveTo>
                            <a:pt x="0" y="7"/>
                          </a:moveTo>
                          <a:lnTo>
                            <a:pt x="19" y="0"/>
                          </a:lnTo>
                          <a:lnTo>
                            <a:pt x="58" y="19"/>
                          </a:lnTo>
                          <a:lnTo>
                            <a:pt x="77" y="13"/>
                          </a:lnTo>
                          <a:lnTo>
                            <a:pt x="72" y="34"/>
                          </a:lnTo>
                          <a:lnTo>
                            <a:pt x="19" y="34"/>
                          </a:lnTo>
                          <a:lnTo>
                            <a:pt x="42" y="27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85960" y="6244200"/>
                      <a:ext cx="67320" cy="3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35">
                          <a:moveTo>
                            <a:pt x="0" y="7"/>
                          </a:moveTo>
                          <a:lnTo>
                            <a:pt x="19" y="0"/>
                          </a:lnTo>
                          <a:lnTo>
                            <a:pt x="58" y="19"/>
                          </a:lnTo>
                          <a:lnTo>
                            <a:pt x="77" y="13"/>
                          </a:lnTo>
                          <a:lnTo>
                            <a:pt x="72" y="34"/>
                          </a:lnTo>
                          <a:lnTo>
                            <a:pt x="19" y="34"/>
                          </a:lnTo>
                          <a:lnTo>
                            <a:pt x="42" y="27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473440" y="6305760"/>
                      <a:ext cx="712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31">
                          <a:moveTo>
                            <a:pt x="81" y="24"/>
                          </a:moveTo>
                          <a:lnTo>
                            <a:pt x="61" y="30"/>
                          </a:lnTo>
                          <a:lnTo>
                            <a:pt x="19" y="15"/>
                          </a:lnTo>
                          <a:lnTo>
                            <a:pt x="0" y="24"/>
                          </a:lnTo>
                          <a:lnTo>
                            <a:pt x="5" y="0"/>
                          </a:lnTo>
                          <a:lnTo>
                            <a:pt x="61" y="0"/>
                          </a:lnTo>
                          <a:lnTo>
                            <a:pt x="41" y="9"/>
                          </a:lnTo>
                          <a:lnTo>
                            <a:pt x="81" y="24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73440" y="6305760"/>
                      <a:ext cx="712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31">
                          <a:moveTo>
                            <a:pt x="81" y="24"/>
                          </a:moveTo>
                          <a:lnTo>
                            <a:pt x="61" y="30"/>
                          </a:lnTo>
                          <a:lnTo>
                            <a:pt x="19" y="15"/>
                          </a:lnTo>
                          <a:lnTo>
                            <a:pt x="0" y="24"/>
                          </a:lnTo>
                          <a:lnTo>
                            <a:pt x="5" y="0"/>
                          </a:lnTo>
                          <a:lnTo>
                            <a:pt x="61" y="0"/>
                          </a:lnTo>
                          <a:lnTo>
                            <a:pt x="41" y="9"/>
                          </a:lnTo>
                          <a:lnTo>
                            <a:pt x="81" y="24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5390280" y="6244200"/>
                    <a:ext cx="147960" cy="90000"/>
                    <a:chOff x="5390280" y="6244200"/>
                    <a:chExt cx="147960" cy="9000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5468040" y="6244200"/>
                      <a:ext cx="70200" cy="3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" h="35">
                          <a:moveTo>
                            <a:pt x="0" y="27"/>
                          </a:moveTo>
                          <a:lnTo>
                            <a:pt x="19" y="34"/>
                          </a:lnTo>
                          <a:lnTo>
                            <a:pt x="59" y="13"/>
                          </a:lnTo>
                          <a:lnTo>
                            <a:pt x="80" y="19"/>
                          </a:lnTo>
                          <a:lnTo>
                            <a:pt x="72" y="0"/>
                          </a:lnTo>
                          <a:lnTo>
                            <a:pt x="19" y="0"/>
                          </a:lnTo>
                          <a:lnTo>
                            <a:pt x="46" y="7"/>
                          </a:lnTo>
                          <a:lnTo>
                            <a:pt x="0" y="2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5468040" y="6244200"/>
                      <a:ext cx="70200" cy="3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" h="35">
                          <a:moveTo>
                            <a:pt x="0" y="27"/>
                          </a:moveTo>
                          <a:lnTo>
                            <a:pt x="19" y="34"/>
                          </a:lnTo>
                          <a:lnTo>
                            <a:pt x="59" y="13"/>
                          </a:lnTo>
                          <a:lnTo>
                            <a:pt x="80" y="19"/>
                          </a:lnTo>
                          <a:lnTo>
                            <a:pt x="72" y="0"/>
                          </a:lnTo>
                          <a:lnTo>
                            <a:pt x="19" y="0"/>
                          </a:lnTo>
                          <a:lnTo>
                            <a:pt x="46" y="7"/>
                          </a:lnTo>
                          <a:lnTo>
                            <a:pt x="0" y="2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5390280" y="6299280"/>
                      <a:ext cx="6768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38">
                          <a:moveTo>
                            <a:pt x="77" y="6"/>
                          </a:moveTo>
                          <a:lnTo>
                            <a:pt x="58" y="0"/>
                          </a:lnTo>
                          <a:lnTo>
                            <a:pt x="19" y="22"/>
                          </a:lnTo>
                          <a:lnTo>
                            <a:pt x="0" y="15"/>
                          </a:lnTo>
                          <a:lnTo>
                            <a:pt x="6" y="37"/>
                          </a:lnTo>
                          <a:lnTo>
                            <a:pt x="58" y="37"/>
                          </a:lnTo>
                          <a:lnTo>
                            <a:pt x="35" y="31"/>
                          </a:lnTo>
                          <a:lnTo>
                            <a:pt x="77" y="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5390280" y="6299280"/>
                      <a:ext cx="6768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38">
                          <a:moveTo>
                            <a:pt x="77" y="6"/>
                          </a:moveTo>
                          <a:lnTo>
                            <a:pt x="58" y="0"/>
                          </a:lnTo>
                          <a:lnTo>
                            <a:pt x="19" y="22"/>
                          </a:lnTo>
                          <a:lnTo>
                            <a:pt x="0" y="15"/>
                          </a:lnTo>
                          <a:lnTo>
                            <a:pt x="6" y="37"/>
                          </a:lnTo>
                          <a:lnTo>
                            <a:pt x="58" y="37"/>
                          </a:lnTo>
                          <a:lnTo>
                            <a:pt x="35" y="31"/>
                          </a:lnTo>
                          <a:lnTo>
                            <a:pt x="77" y="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90" name=""/>
              <p:cNvSpPr/>
              <p:nvPr/>
            </p:nvSpPr>
            <p:spPr>
              <a:xfrm>
                <a:off x="5304240" y="6340680"/>
                <a:ext cx="6436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600" spc="-1" strike="noStrike">
                    <a:solidFill>
                      <a:srgbClr val="ffffff"/>
                    </a:solidFill>
                    <a:latin typeface="Arial"/>
                  </a:rPr>
                  <a:t>WELLFLEE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4743360" y="6203880"/>
              <a:ext cx="3747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48960" y="6246720"/>
              <a:ext cx="842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SEGMENTO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EDIFICIO 20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10"/>
            <a:stretch/>
          </p:blipFill>
          <p:spPr>
            <a:xfrm>
              <a:off x="2446200" y="4176720"/>
              <a:ext cx="546120" cy="128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4" name=""/>
            <p:cNvGrpSpPr/>
            <p:nvPr/>
          </p:nvGrpSpPr>
          <p:grpSpPr>
            <a:xfrm>
              <a:off x="3656160" y="6469200"/>
              <a:ext cx="339480" cy="388800"/>
              <a:chOff x="3656160" y="6469200"/>
              <a:chExt cx="339480" cy="388800"/>
            </a:xfrm>
          </p:grpSpPr>
          <p:sp>
            <p:nvSpPr>
              <p:cNvPr id="295" name=""/>
              <p:cNvSpPr/>
              <p:nvPr/>
            </p:nvSpPr>
            <p:spPr>
              <a:xfrm>
                <a:off x="3656160" y="6469200"/>
                <a:ext cx="339480" cy="3888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3704760" y="6492600"/>
                <a:ext cx="242640" cy="302760"/>
                <a:chOff x="3704760" y="6492600"/>
                <a:chExt cx="242640" cy="30276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3709800" y="6498720"/>
                  <a:ext cx="237600" cy="296640"/>
                  <a:chOff x="3709800" y="6498720"/>
                  <a:chExt cx="237600" cy="2966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3715920" y="6653520"/>
                    <a:ext cx="222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34">
                        <a:moveTo>
                          <a:pt x="0" y="33"/>
                        </a:moveTo>
                        <a:lnTo>
                          <a:pt x="28" y="0"/>
                        </a:lnTo>
                        <a:lnTo>
                          <a:pt x="229" y="0"/>
                        </a:lnTo>
                        <a:lnTo>
                          <a:pt x="255" y="33"/>
                        </a:lnTo>
                        <a:lnTo>
                          <a:pt x="0" y="3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3716640" y="6653520"/>
                    <a:ext cx="222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34">
                        <a:moveTo>
                          <a:pt x="0" y="33"/>
                        </a:moveTo>
                        <a:lnTo>
                          <a:pt x="26" y="0"/>
                        </a:lnTo>
                        <a:lnTo>
                          <a:pt x="229" y="0"/>
                        </a:lnTo>
                        <a:lnTo>
                          <a:pt x="255" y="33"/>
                        </a:lnTo>
                        <a:lnTo>
                          <a:pt x="0" y="3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749040" y="6498720"/>
                    <a:ext cx="1580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3">
                        <a:moveTo>
                          <a:pt x="0" y="22"/>
                        </a:moveTo>
                        <a:lnTo>
                          <a:pt x="20" y="0"/>
                        </a:lnTo>
                        <a:lnTo>
                          <a:pt x="161" y="0"/>
                        </a:lnTo>
                        <a:lnTo>
                          <a:pt x="181" y="22"/>
                        </a:lnTo>
                        <a:lnTo>
                          <a:pt x="0" y="22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3749040" y="6498720"/>
                    <a:ext cx="1580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3">
                        <a:moveTo>
                          <a:pt x="0" y="22"/>
                        </a:moveTo>
                        <a:lnTo>
                          <a:pt x="20" y="0"/>
                        </a:lnTo>
                        <a:lnTo>
                          <a:pt x="161" y="0"/>
                        </a:lnTo>
                        <a:lnTo>
                          <a:pt x="181" y="22"/>
                        </a:lnTo>
                        <a:lnTo>
                          <a:pt x="0" y="22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3750840" y="6520680"/>
                    <a:ext cx="155520" cy="1501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717360" y="6686640"/>
                    <a:ext cx="220320" cy="63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764520" y="6539760"/>
                    <a:ext cx="127080" cy="1134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>
                    <a:off x="3870720" y="6708600"/>
                    <a:ext cx="51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709800" y="6750720"/>
                    <a:ext cx="2376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3">
                        <a:moveTo>
                          <a:pt x="0" y="32"/>
                        </a:moveTo>
                        <a:lnTo>
                          <a:pt x="29" y="0"/>
                        </a:lnTo>
                        <a:lnTo>
                          <a:pt x="242" y="0"/>
                        </a:lnTo>
                        <a:lnTo>
                          <a:pt x="272" y="32"/>
                        </a:lnTo>
                        <a:lnTo>
                          <a:pt x="0" y="32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709800" y="6751440"/>
                    <a:ext cx="23688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34">
                        <a:moveTo>
                          <a:pt x="0" y="33"/>
                        </a:moveTo>
                        <a:lnTo>
                          <a:pt x="29" y="0"/>
                        </a:lnTo>
                        <a:lnTo>
                          <a:pt x="242" y="0"/>
                        </a:lnTo>
                        <a:lnTo>
                          <a:pt x="271" y="33"/>
                        </a:lnTo>
                        <a:lnTo>
                          <a:pt x="0" y="3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711240" y="6782760"/>
                    <a:ext cx="23400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3704760" y="6492600"/>
                  <a:ext cx="237600" cy="297720"/>
                  <a:chOff x="3704760" y="6492600"/>
                  <a:chExt cx="237600" cy="2977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3711600" y="6649200"/>
                    <a:ext cx="22284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32">
                        <a:moveTo>
                          <a:pt x="0" y="31"/>
                        </a:moveTo>
                        <a:lnTo>
                          <a:pt x="26" y="0"/>
                        </a:lnTo>
                        <a:lnTo>
                          <a:pt x="229" y="0"/>
                        </a:lnTo>
                        <a:lnTo>
                          <a:pt x="255" y="31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edede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3711600" y="6649200"/>
                    <a:ext cx="22284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32">
                        <a:moveTo>
                          <a:pt x="0" y="31"/>
                        </a:moveTo>
                        <a:lnTo>
                          <a:pt x="26" y="0"/>
                        </a:lnTo>
                        <a:lnTo>
                          <a:pt x="229" y="0"/>
                        </a:lnTo>
                        <a:lnTo>
                          <a:pt x="255" y="31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edede7"/>
                  </a:solidFill>
                  <a:ln cap="rnd" w="12600">
                    <a:solidFill>
                      <a:srgbClr val="62624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3744720" y="6492600"/>
                    <a:ext cx="1580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4">
                        <a:moveTo>
                          <a:pt x="0" y="23"/>
                        </a:moveTo>
                        <a:lnTo>
                          <a:pt x="20" y="0"/>
                        </a:lnTo>
                        <a:lnTo>
                          <a:pt x="161" y="0"/>
                        </a:lnTo>
                        <a:lnTo>
                          <a:pt x="181" y="23"/>
                        </a:lnTo>
                        <a:lnTo>
                          <a:pt x="0" y="23"/>
                        </a:lnTo>
                      </a:path>
                    </a:pathLst>
                  </a:custGeom>
                  <a:solidFill>
                    <a:srgbClr val="edede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3744720" y="6492600"/>
                    <a:ext cx="1580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4">
                        <a:moveTo>
                          <a:pt x="0" y="23"/>
                        </a:moveTo>
                        <a:lnTo>
                          <a:pt x="20" y="0"/>
                        </a:lnTo>
                        <a:lnTo>
                          <a:pt x="161" y="0"/>
                        </a:lnTo>
                        <a:lnTo>
                          <a:pt x="181" y="23"/>
                        </a:lnTo>
                        <a:lnTo>
                          <a:pt x="0" y="23"/>
                        </a:lnTo>
                      </a:path>
                    </a:pathLst>
                  </a:custGeom>
                  <a:solidFill>
                    <a:srgbClr val="edede7"/>
                  </a:solidFill>
                  <a:ln cap="rnd" w="12600">
                    <a:solidFill>
                      <a:srgbClr val="62624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3746520" y="6516360"/>
                    <a:ext cx="154800" cy="150120"/>
                  </a:xfrm>
                  <a:prstGeom prst="rect">
                    <a:avLst/>
                  </a:prstGeom>
                  <a:solidFill>
                    <a:srgbClr val="dbdbce"/>
                  </a:solidFill>
                  <a:ln w="12600">
                    <a:solidFill>
                      <a:srgbClr val="7a7a5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3714120" y="6680160"/>
                    <a:ext cx="218520" cy="64080"/>
                  </a:xfrm>
                  <a:prstGeom prst="rect">
                    <a:avLst/>
                  </a:prstGeom>
                  <a:solidFill>
                    <a:srgbClr val="dbdbce"/>
                  </a:solidFill>
                  <a:ln w="12600">
                    <a:solidFill>
                      <a:srgbClr val="7a7a5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760200" y="6534720"/>
                    <a:ext cx="127080" cy="1144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62624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H="1">
                    <a:off x="3866400" y="670356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705480" y="6744600"/>
                    <a:ext cx="23688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34">
                        <a:moveTo>
                          <a:pt x="0" y="33"/>
                        </a:moveTo>
                        <a:lnTo>
                          <a:pt x="29" y="0"/>
                        </a:lnTo>
                        <a:lnTo>
                          <a:pt x="242" y="0"/>
                        </a:lnTo>
                        <a:lnTo>
                          <a:pt x="271" y="33"/>
                        </a:lnTo>
                        <a:lnTo>
                          <a:pt x="0" y="33"/>
                        </a:lnTo>
                      </a:path>
                    </a:pathLst>
                  </a:custGeom>
                  <a:solidFill>
                    <a:srgbClr val="edede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3704760" y="6746400"/>
                    <a:ext cx="2376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4">
                        <a:moveTo>
                          <a:pt x="0" y="33"/>
                        </a:moveTo>
                        <a:lnTo>
                          <a:pt x="29" y="0"/>
                        </a:lnTo>
                        <a:lnTo>
                          <a:pt x="243" y="0"/>
                        </a:lnTo>
                        <a:lnTo>
                          <a:pt x="272" y="33"/>
                        </a:lnTo>
                        <a:lnTo>
                          <a:pt x="0" y="33"/>
                        </a:lnTo>
                      </a:path>
                    </a:pathLst>
                  </a:custGeom>
                  <a:solidFill>
                    <a:srgbClr val="edede7"/>
                  </a:solidFill>
                  <a:ln cap="rnd" w="12600">
                    <a:solidFill>
                      <a:srgbClr val="62624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708000" y="6777720"/>
                    <a:ext cx="232920" cy="12600"/>
                  </a:xfrm>
                  <a:prstGeom prst="rect">
                    <a:avLst/>
                  </a:prstGeom>
                  <a:solidFill>
                    <a:srgbClr val="dbdbce"/>
                  </a:solidFill>
                  <a:ln w="12600">
                    <a:solidFill>
                      <a:srgbClr val="7a7a5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21" name=""/>
            <p:cNvSpPr/>
            <p:nvPr/>
          </p:nvSpPr>
          <p:spPr>
            <a:xfrm>
              <a:off x="3824280" y="624852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4157640" y="6469200"/>
              <a:ext cx="339840" cy="388800"/>
              <a:chOff x="4157640" y="6469200"/>
              <a:chExt cx="339840" cy="388800"/>
            </a:xfrm>
          </p:grpSpPr>
          <p:sp>
            <p:nvSpPr>
              <p:cNvPr id="323" name=""/>
              <p:cNvSpPr/>
              <p:nvPr/>
            </p:nvSpPr>
            <p:spPr>
              <a:xfrm>
                <a:off x="4157640" y="6469200"/>
                <a:ext cx="339840" cy="3888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4199400" y="6512760"/>
                <a:ext cx="243000" cy="302760"/>
                <a:chOff x="4199400" y="6512760"/>
                <a:chExt cx="243000" cy="30276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4204440" y="6518880"/>
                  <a:ext cx="237960" cy="296640"/>
                  <a:chOff x="4204440" y="6518880"/>
                  <a:chExt cx="237960" cy="2966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4210560" y="6673680"/>
                    <a:ext cx="2232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34">
                        <a:moveTo>
                          <a:pt x="0" y="33"/>
                        </a:moveTo>
                        <a:lnTo>
                          <a:pt x="28" y="0"/>
                        </a:lnTo>
                        <a:lnTo>
                          <a:pt x="229" y="0"/>
                        </a:lnTo>
                        <a:lnTo>
                          <a:pt x="255" y="33"/>
                        </a:lnTo>
                        <a:lnTo>
                          <a:pt x="0" y="3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4211280" y="6673680"/>
                    <a:ext cx="2232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34">
                        <a:moveTo>
                          <a:pt x="0" y="33"/>
                        </a:moveTo>
                        <a:lnTo>
                          <a:pt x="26" y="0"/>
                        </a:lnTo>
                        <a:lnTo>
                          <a:pt x="229" y="0"/>
                        </a:lnTo>
                        <a:lnTo>
                          <a:pt x="255" y="33"/>
                        </a:lnTo>
                        <a:lnTo>
                          <a:pt x="0" y="3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4243680" y="6518880"/>
                    <a:ext cx="1584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3">
                        <a:moveTo>
                          <a:pt x="0" y="22"/>
                        </a:moveTo>
                        <a:lnTo>
                          <a:pt x="20" y="0"/>
                        </a:lnTo>
                        <a:lnTo>
                          <a:pt x="161" y="0"/>
                        </a:lnTo>
                        <a:lnTo>
                          <a:pt x="181" y="22"/>
                        </a:lnTo>
                        <a:lnTo>
                          <a:pt x="0" y="22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4243680" y="6518880"/>
                    <a:ext cx="1584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3">
                        <a:moveTo>
                          <a:pt x="0" y="22"/>
                        </a:moveTo>
                        <a:lnTo>
                          <a:pt x="20" y="0"/>
                        </a:lnTo>
                        <a:lnTo>
                          <a:pt x="161" y="0"/>
                        </a:lnTo>
                        <a:lnTo>
                          <a:pt x="181" y="22"/>
                        </a:lnTo>
                        <a:lnTo>
                          <a:pt x="0" y="22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4245120" y="6540840"/>
                    <a:ext cx="156240" cy="1501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4212000" y="6706800"/>
                    <a:ext cx="220320" cy="63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259160" y="6559920"/>
                    <a:ext cx="127080" cy="1134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65720" y="6728760"/>
                    <a:ext cx="51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4204440" y="6770880"/>
                    <a:ext cx="2379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3">
                        <a:moveTo>
                          <a:pt x="0" y="32"/>
                        </a:moveTo>
                        <a:lnTo>
                          <a:pt x="29" y="0"/>
                        </a:lnTo>
                        <a:lnTo>
                          <a:pt x="242" y="0"/>
                        </a:lnTo>
                        <a:lnTo>
                          <a:pt x="272" y="32"/>
                        </a:lnTo>
                        <a:lnTo>
                          <a:pt x="0" y="32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4204440" y="6771600"/>
                    <a:ext cx="2372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34">
                        <a:moveTo>
                          <a:pt x="0" y="33"/>
                        </a:moveTo>
                        <a:lnTo>
                          <a:pt x="29" y="0"/>
                        </a:lnTo>
                        <a:lnTo>
                          <a:pt x="242" y="0"/>
                        </a:lnTo>
                        <a:lnTo>
                          <a:pt x="271" y="33"/>
                        </a:lnTo>
                        <a:lnTo>
                          <a:pt x="0" y="3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4205880" y="6802920"/>
                    <a:ext cx="23436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4199400" y="6512760"/>
                  <a:ext cx="237960" cy="297720"/>
                  <a:chOff x="4199400" y="6512760"/>
                  <a:chExt cx="237960" cy="29772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4206240" y="6669360"/>
                    <a:ext cx="22320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32">
                        <a:moveTo>
                          <a:pt x="0" y="31"/>
                        </a:moveTo>
                        <a:lnTo>
                          <a:pt x="26" y="0"/>
                        </a:lnTo>
                        <a:lnTo>
                          <a:pt x="229" y="0"/>
                        </a:lnTo>
                        <a:lnTo>
                          <a:pt x="255" y="31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edede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4206240" y="6669360"/>
                    <a:ext cx="22320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32">
                        <a:moveTo>
                          <a:pt x="0" y="31"/>
                        </a:moveTo>
                        <a:lnTo>
                          <a:pt x="26" y="0"/>
                        </a:lnTo>
                        <a:lnTo>
                          <a:pt x="229" y="0"/>
                        </a:lnTo>
                        <a:lnTo>
                          <a:pt x="255" y="31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edede7"/>
                  </a:solidFill>
                  <a:ln cap="rnd" w="12600">
                    <a:solidFill>
                      <a:srgbClr val="62624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4239360" y="6512760"/>
                    <a:ext cx="1584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4">
                        <a:moveTo>
                          <a:pt x="0" y="23"/>
                        </a:moveTo>
                        <a:lnTo>
                          <a:pt x="20" y="0"/>
                        </a:lnTo>
                        <a:lnTo>
                          <a:pt x="161" y="0"/>
                        </a:lnTo>
                        <a:lnTo>
                          <a:pt x="181" y="23"/>
                        </a:lnTo>
                        <a:lnTo>
                          <a:pt x="0" y="23"/>
                        </a:lnTo>
                      </a:path>
                    </a:pathLst>
                  </a:custGeom>
                  <a:solidFill>
                    <a:srgbClr val="edede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4239360" y="6512760"/>
                    <a:ext cx="1584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4">
                        <a:moveTo>
                          <a:pt x="0" y="23"/>
                        </a:moveTo>
                        <a:lnTo>
                          <a:pt x="20" y="0"/>
                        </a:lnTo>
                        <a:lnTo>
                          <a:pt x="161" y="0"/>
                        </a:lnTo>
                        <a:lnTo>
                          <a:pt x="181" y="23"/>
                        </a:lnTo>
                        <a:lnTo>
                          <a:pt x="0" y="23"/>
                        </a:lnTo>
                      </a:path>
                    </a:pathLst>
                  </a:custGeom>
                  <a:solidFill>
                    <a:srgbClr val="edede7"/>
                  </a:solidFill>
                  <a:ln cap="rnd" w="12600">
                    <a:solidFill>
                      <a:srgbClr val="62624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4240800" y="6536520"/>
                    <a:ext cx="155160" cy="150120"/>
                  </a:xfrm>
                  <a:prstGeom prst="rect">
                    <a:avLst/>
                  </a:prstGeom>
                  <a:solidFill>
                    <a:srgbClr val="dbdbce"/>
                  </a:solidFill>
                  <a:ln w="12600">
                    <a:solidFill>
                      <a:srgbClr val="7a7a5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4208760" y="6700320"/>
                    <a:ext cx="218880" cy="64080"/>
                  </a:xfrm>
                  <a:prstGeom prst="rect">
                    <a:avLst/>
                  </a:prstGeom>
                  <a:solidFill>
                    <a:srgbClr val="dbdbce"/>
                  </a:solidFill>
                  <a:ln w="12600">
                    <a:solidFill>
                      <a:srgbClr val="7a7a5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4254840" y="6554880"/>
                    <a:ext cx="127080" cy="1144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62624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H="1">
                    <a:off x="4361400" y="672372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4200120" y="6764760"/>
                    <a:ext cx="2372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34">
                        <a:moveTo>
                          <a:pt x="0" y="33"/>
                        </a:moveTo>
                        <a:lnTo>
                          <a:pt x="29" y="0"/>
                        </a:lnTo>
                        <a:lnTo>
                          <a:pt x="242" y="0"/>
                        </a:lnTo>
                        <a:lnTo>
                          <a:pt x="271" y="33"/>
                        </a:lnTo>
                        <a:lnTo>
                          <a:pt x="0" y="33"/>
                        </a:lnTo>
                      </a:path>
                    </a:pathLst>
                  </a:custGeom>
                  <a:solidFill>
                    <a:srgbClr val="edede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4199400" y="6766560"/>
                    <a:ext cx="2379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4">
                        <a:moveTo>
                          <a:pt x="0" y="33"/>
                        </a:moveTo>
                        <a:lnTo>
                          <a:pt x="29" y="0"/>
                        </a:lnTo>
                        <a:lnTo>
                          <a:pt x="243" y="0"/>
                        </a:lnTo>
                        <a:lnTo>
                          <a:pt x="272" y="33"/>
                        </a:lnTo>
                        <a:lnTo>
                          <a:pt x="0" y="33"/>
                        </a:lnTo>
                      </a:path>
                    </a:pathLst>
                  </a:custGeom>
                  <a:solidFill>
                    <a:srgbClr val="edede7"/>
                  </a:solidFill>
                  <a:ln cap="rnd" w="12600">
                    <a:solidFill>
                      <a:srgbClr val="62624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4202640" y="6797880"/>
                    <a:ext cx="233640" cy="12600"/>
                  </a:xfrm>
                  <a:prstGeom prst="rect">
                    <a:avLst/>
                  </a:prstGeom>
                  <a:solidFill>
                    <a:srgbClr val="dbdbce"/>
                  </a:solidFill>
                  <a:ln w="12600">
                    <a:solidFill>
                      <a:srgbClr val="7a7a5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49" name=""/>
            <p:cNvSpPr/>
            <p:nvPr/>
          </p:nvSpPr>
          <p:spPr>
            <a:xfrm flipV="1">
              <a:off x="4324320" y="6203520"/>
              <a:ext cx="0" cy="265320"/>
            </a:xfrm>
            <a:prstGeom prst="line">
              <a:avLst/>
            </a:prstGeom>
            <a:ln w="507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6286680" y="5540400"/>
              <a:ext cx="339480" cy="390600"/>
              <a:chOff x="6286680" y="5540400"/>
              <a:chExt cx="339480" cy="390600"/>
            </a:xfrm>
          </p:grpSpPr>
          <p:sp>
            <p:nvSpPr>
              <p:cNvPr id="351" name=""/>
              <p:cNvSpPr/>
              <p:nvPr/>
            </p:nvSpPr>
            <p:spPr>
              <a:xfrm>
                <a:off x="6286680" y="5540400"/>
                <a:ext cx="339480" cy="3906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6328440" y="5584320"/>
                <a:ext cx="242640" cy="304200"/>
                <a:chOff x="6328440" y="5584320"/>
                <a:chExt cx="242640" cy="30420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6333480" y="5590440"/>
                  <a:ext cx="237600" cy="298080"/>
                  <a:chOff x="6333480" y="5590440"/>
                  <a:chExt cx="237600" cy="2980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6339600" y="5745960"/>
                    <a:ext cx="222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34">
                        <a:moveTo>
                          <a:pt x="0" y="33"/>
                        </a:moveTo>
                        <a:lnTo>
                          <a:pt x="28" y="0"/>
                        </a:lnTo>
                        <a:lnTo>
                          <a:pt x="229" y="0"/>
                        </a:lnTo>
                        <a:lnTo>
                          <a:pt x="255" y="33"/>
                        </a:lnTo>
                        <a:lnTo>
                          <a:pt x="0" y="3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340320" y="5745960"/>
                    <a:ext cx="222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34">
                        <a:moveTo>
                          <a:pt x="0" y="33"/>
                        </a:moveTo>
                        <a:lnTo>
                          <a:pt x="26" y="0"/>
                        </a:lnTo>
                        <a:lnTo>
                          <a:pt x="229" y="0"/>
                        </a:lnTo>
                        <a:lnTo>
                          <a:pt x="255" y="33"/>
                        </a:lnTo>
                        <a:lnTo>
                          <a:pt x="0" y="3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6372720" y="5590440"/>
                    <a:ext cx="1580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3">
                        <a:moveTo>
                          <a:pt x="0" y="22"/>
                        </a:moveTo>
                        <a:lnTo>
                          <a:pt x="20" y="0"/>
                        </a:lnTo>
                        <a:lnTo>
                          <a:pt x="161" y="0"/>
                        </a:lnTo>
                        <a:lnTo>
                          <a:pt x="181" y="22"/>
                        </a:lnTo>
                        <a:lnTo>
                          <a:pt x="0" y="22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6372720" y="5590440"/>
                    <a:ext cx="1580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3">
                        <a:moveTo>
                          <a:pt x="0" y="22"/>
                        </a:moveTo>
                        <a:lnTo>
                          <a:pt x="20" y="0"/>
                        </a:lnTo>
                        <a:lnTo>
                          <a:pt x="161" y="0"/>
                        </a:lnTo>
                        <a:lnTo>
                          <a:pt x="181" y="22"/>
                        </a:lnTo>
                        <a:lnTo>
                          <a:pt x="0" y="22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6374160" y="5612400"/>
                    <a:ext cx="155880" cy="15084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6341040" y="5779080"/>
                    <a:ext cx="219960" cy="633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6388200" y="5631840"/>
                    <a:ext cx="127080" cy="11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flipH="1">
                    <a:off x="6494400" y="5801400"/>
                    <a:ext cx="51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6333480" y="5843880"/>
                    <a:ext cx="2376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3">
                        <a:moveTo>
                          <a:pt x="0" y="32"/>
                        </a:moveTo>
                        <a:lnTo>
                          <a:pt x="29" y="0"/>
                        </a:lnTo>
                        <a:lnTo>
                          <a:pt x="242" y="0"/>
                        </a:lnTo>
                        <a:lnTo>
                          <a:pt x="272" y="32"/>
                        </a:lnTo>
                        <a:lnTo>
                          <a:pt x="0" y="32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6333480" y="5844600"/>
                    <a:ext cx="2368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34">
                        <a:moveTo>
                          <a:pt x="0" y="33"/>
                        </a:moveTo>
                        <a:lnTo>
                          <a:pt x="29" y="0"/>
                        </a:lnTo>
                        <a:lnTo>
                          <a:pt x="242" y="0"/>
                        </a:lnTo>
                        <a:lnTo>
                          <a:pt x="271" y="33"/>
                        </a:lnTo>
                        <a:lnTo>
                          <a:pt x="0" y="3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334920" y="5875920"/>
                    <a:ext cx="23400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6328440" y="5584320"/>
                  <a:ext cx="237600" cy="299160"/>
                  <a:chOff x="6328440" y="5584320"/>
                  <a:chExt cx="237600" cy="29916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6335280" y="5741640"/>
                    <a:ext cx="2228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32">
                        <a:moveTo>
                          <a:pt x="0" y="31"/>
                        </a:moveTo>
                        <a:lnTo>
                          <a:pt x="26" y="0"/>
                        </a:lnTo>
                        <a:lnTo>
                          <a:pt x="229" y="0"/>
                        </a:lnTo>
                        <a:lnTo>
                          <a:pt x="255" y="31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edede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6335280" y="5741640"/>
                    <a:ext cx="2228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32">
                        <a:moveTo>
                          <a:pt x="0" y="31"/>
                        </a:moveTo>
                        <a:lnTo>
                          <a:pt x="26" y="0"/>
                        </a:lnTo>
                        <a:lnTo>
                          <a:pt x="229" y="0"/>
                        </a:lnTo>
                        <a:lnTo>
                          <a:pt x="255" y="31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edede7"/>
                  </a:solidFill>
                  <a:ln cap="rnd" w="12600">
                    <a:solidFill>
                      <a:srgbClr val="62624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6368400" y="5584320"/>
                    <a:ext cx="1580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4">
                        <a:moveTo>
                          <a:pt x="0" y="23"/>
                        </a:moveTo>
                        <a:lnTo>
                          <a:pt x="20" y="0"/>
                        </a:lnTo>
                        <a:lnTo>
                          <a:pt x="161" y="0"/>
                        </a:lnTo>
                        <a:lnTo>
                          <a:pt x="181" y="23"/>
                        </a:lnTo>
                        <a:lnTo>
                          <a:pt x="0" y="23"/>
                        </a:lnTo>
                      </a:path>
                    </a:pathLst>
                  </a:custGeom>
                  <a:solidFill>
                    <a:srgbClr val="edede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6368400" y="5584320"/>
                    <a:ext cx="1580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4">
                        <a:moveTo>
                          <a:pt x="0" y="23"/>
                        </a:moveTo>
                        <a:lnTo>
                          <a:pt x="20" y="0"/>
                        </a:lnTo>
                        <a:lnTo>
                          <a:pt x="161" y="0"/>
                        </a:lnTo>
                        <a:lnTo>
                          <a:pt x="181" y="23"/>
                        </a:lnTo>
                        <a:lnTo>
                          <a:pt x="0" y="23"/>
                        </a:lnTo>
                      </a:path>
                    </a:pathLst>
                  </a:custGeom>
                  <a:solidFill>
                    <a:srgbClr val="edede7"/>
                  </a:solidFill>
                  <a:ln cap="rnd" w="12600">
                    <a:solidFill>
                      <a:srgbClr val="62624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6369840" y="5608080"/>
                    <a:ext cx="154800" cy="150840"/>
                  </a:xfrm>
                  <a:prstGeom prst="rect">
                    <a:avLst/>
                  </a:prstGeom>
                  <a:solidFill>
                    <a:srgbClr val="dbdbce"/>
                  </a:solidFill>
                  <a:ln w="12600">
                    <a:solidFill>
                      <a:srgbClr val="7a7a5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6337800" y="5772960"/>
                    <a:ext cx="218520" cy="64440"/>
                  </a:xfrm>
                  <a:prstGeom prst="rect">
                    <a:avLst/>
                  </a:prstGeom>
                  <a:solidFill>
                    <a:srgbClr val="dbdbce"/>
                  </a:solidFill>
                  <a:ln w="12600">
                    <a:solidFill>
                      <a:srgbClr val="7a7a5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6383880" y="5626440"/>
                    <a:ext cx="127080" cy="11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62624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>
                    <a:off x="6490080" y="579600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6329160" y="5837400"/>
                    <a:ext cx="2368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34">
                        <a:moveTo>
                          <a:pt x="0" y="33"/>
                        </a:moveTo>
                        <a:lnTo>
                          <a:pt x="29" y="0"/>
                        </a:lnTo>
                        <a:lnTo>
                          <a:pt x="242" y="0"/>
                        </a:lnTo>
                        <a:lnTo>
                          <a:pt x="271" y="33"/>
                        </a:lnTo>
                        <a:lnTo>
                          <a:pt x="0" y="33"/>
                        </a:lnTo>
                      </a:path>
                    </a:pathLst>
                  </a:custGeom>
                  <a:solidFill>
                    <a:srgbClr val="edede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6328440" y="5839200"/>
                    <a:ext cx="2376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4">
                        <a:moveTo>
                          <a:pt x="0" y="33"/>
                        </a:moveTo>
                        <a:lnTo>
                          <a:pt x="29" y="0"/>
                        </a:lnTo>
                        <a:lnTo>
                          <a:pt x="243" y="0"/>
                        </a:lnTo>
                        <a:lnTo>
                          <a:pt x="272" y="33"/>
                        </a:lnTo>
                        <a:lnTo>
                          <a:pt x="0" y="33"/>
                        </a:lnTo>
                      </a:path>
                    </a:pathLst>
                  </a:custGeom>
                  <a:solidFill>
                    <a:srgbClr val="edede7"/>
                  </a:solidFill>
                  <a:ln cap="rnd" w="12600">
                    <a:solidFill>
                      <a:srgbClr val="62624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331680" y="5870880"/>
                    <a:ext cx="233280" cy="12600"/>
                  </a:xfrm>
                  <a:prstGeom prst="rect">
                    <a:avLst/>
                  </a:prstGeom>
                  <a:solidFill>
                    <a:srgbClr val="dbdbce"/>
                  </a:solidFill>
                  <a:ln w="12600">
                    <a:solidFill>
                      <a:srgbClr val="7a7a5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77" name=""/>
            <p:cNvGrpSpPr/>
            <p:nvPr/>
          </p:nvGrpSpPr>
          <p:grpSpPr>
            <a:xfrm>
              <a:off x="6286680" y="4392720"/>
              <a:ext cx="339480" cy="390240"/>
              <a:chOff x="6286680" y="4392720"/>
              <a:chExt cx="339480" cy="390240"/>
            </a:xfrm>
          </p:grpSpPr>
          <p:sp>
            <p:nvSpPr>
              <p:cNvPr id="378" name=""/>
              <p:cNvSpPr/>
              <p:nvPr/>
            </p:nvSpPr>
            <p:spPr>
              <a:xfrm>
                <a:off x="6286680" y="4392720"/>
                <a:ext cx="339480" cy="39024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6328440" y="4436640"/>
                <a:ext cx="242640" cy="303840"/>
                <a:chOff x="6328440" y="4436640"/>
                <a:chExt cx="242640" cy="303840"/>
              </a:xfrm>
            </p:grpSpPr>
            <p:grpSp>
              <p:nvGrpSpPr>
                <p:cNvPr id="380" name=""/>
                <p:cNvGrpSpPr/>
                <p:nvPr/>
              </p:nvGrpSpPr>
              <p:grpSpPr>
                <a:xfrm>
                  <a:off x="6333480" y="4442760"/>
                  <a:ext cx="237600" cy="297720"/>
                  <a:chOff x="6333480" y="4442760"/>
                  <a:chExt cx="237600" cy="29772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6339600" y="4597920"/>
                    <a:ext cx="222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34">
                        <a:moveTo>
                          <a:pt x="0" y="33"/>
                        </a:moveTo>
                        <a:lnTo>
                          <a:pt x="28" y="0"/>
                        </a:lnTo>
                        <a:lnTo>
                          <a:pt x="229" y="0"/>
                        </a:lnTo>
                        <a:lnTo>
                          <a:pt x="255" y="33"/>
                        </a:lnTo>
                        <a:lnTo>
                          <a:pt x="0" y="3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6340320" y="4597920"/>
                    <a:ext cx="222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34">
                        <a:moveTo>
                          <a:pt x="0" y="33"/>
                        </a:moveTo>
                        <a:lnTo>
                          <a:pt x="26" y="0"/>
                        </a:lnTo>
                        <a:lnTo>
                          <a:pt x="229" y="0"/>
                        </a:lnTo>
                        <a:lnTo>
                          <a:pt x="255" y="33"/>
                        </a:lnTo>
                        <a:lnTo>
                          <a:pt x="0" y="3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6372720" y="4442760"/>
                    <a:ext cx="1580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3">
                        <a:moveTo>
                          <a:pt x="0" y="22"/>
                        </a:moveTo>
                        <a:lnTo>
                          <a:pt x="20" y="0"/>
                        </a:lnTo>
                        <a:lnTo>
                          <a:pt x="161" y="0"/>
                        </a:lnTo>
                        <a:lnTo>
                          <a:pt x="181" y="22"/>
                        </a:lnTo>
                        <a:lnTo>
                          <a:pt x="0" y="22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6372720" y="4442760"/>
                    <a:ext cx="1580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3">
                        <a:moveTo>
                          <a:pt x="0" y="22"/>
                        </a:moveTo>
                        <a:lnTo>
                          <a:pt x="20" y="0"/>
                        </a:lnTo>
                        <a:lnTo>
                          <a:pt x="161" y="0"/>
                        </a:lnTo>
                        <a:lnTo>
                          <a:pt x="181" y="22"/>
                        </a:lnTo>
                        <a:lnTo>
                          <a:pt x="0" y="22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6374160" y="4464720"/>
                    <a:ext cx="155880" cy="15084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6341040" y="4631400"/>
                    <a:ext cx="219960" cy="633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6388200" y="4483800"/>
                    <a:ext cx="127080" cy="1141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>
                    <a:off x="6494400" y="4653360"/>
                    <a:ext cx="51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6333480" y="4695840"/>
                    <a:ext cx="2376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3">
                        <a:moveTo>
                          <a:pt x="0" y="32"/>
                        </a:moveTo>
                        <a:lnTo>
                          <a:pt x="29" y="0"/>
                        </a:lnTo>
                        <a:lnTo>
                          <a:pt x="242" y="0"/>
                        </a:lnTo>
                        <a:lnTo>
                          <a:pt x="272" y="32"/>
                        </a:lnTo>
                        <a:lnTo>
                          <a:pt x="0" y="32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6333480" y="4696560"/>
                    <a:ext cx="23688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34">
                        <a:moveTo>
                          <a:pt x="0" y="33"/>
                        </a:moveTo>
                        <a:lnTo>
                          <a:pt x="29" y="0"/>
                        </a:lnTo>
                        <a:lnTo>
                          <a:pt x="242" y="0"/>
                        </a:lnTo>
                        <a:lnTo>
                          <a:pt x="271" y="33"/>
                        </a:lnTo>
                        <a:lnTo>
                          <a:pt x="0" y="3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6334920" y="4727880"/>
                    <a:ext cx="23400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6328440" y="4436640"/>
                  <a:ext cx="237600" cy="298440"/>
                  <a:chOff x="6328440" y="4436640"/>
                  <a:chExt cx="237600" cy="29844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6335280" y="4593600"/>
                    <a:ext cx="22284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32">
                        <a:moveTo>
                          <a:pt x="0" y="31"/>
                        </a:moveTo>
                        <a:lnTo>
                          <a:pt x="26" y="0"/>
                        </a:lnTo>
                        <a:lnTo>
                          <a:pt x="229" y="0"/>
                        </a:lnTo>
                        <a:lnTo>
                          <a:pt x="255" y="31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edede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6335280" y="4593600"/>
                    <a:ext cx="22284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32">
                        <a:moveTo>
                          <a:pt x="0" y="31"/>
                        </a:moveTo>
                        <a:lnTo>
                          <a:pt x="26" y="0"/>
                        </a:lnTo>
                        <a:lnTo>
                          <a:pt x="229" y="0"/>
                        </a:lnTo>
                        <a:lnTo>
                          <a:pt x="255" y="31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edede7"/>
                  </a:solidFill>
                  <a:ln cap="rnd" w="12600">
                    <a:solidFill>
                      <a:srgbClr val="62624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6368400" y="4436640"/>
                    <a:ext cx="1580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4">
                        <a:moveTo>
                          <a:pt x="0" y="23"/>
                        </a:moveTo>
                        <a:lnTo>
                          <a:pt x="20" y="0"/>
                        </a:lnTo>
                        <a:lnTo>
                          <a:pt x="161" y="0"/>
                        </a:lnTo>
                        <a:lnTo>
                          <a:pt x="181" y="23"/>
                        </a:lnTo>
                        <a:lnTo>
                          <a:pt x="0" y="23"/>
                        </a:lnTo>
                      </a:path>
                    </a:pathLst>
                  </a:custGeom>
                  <a:solidFill>
                    <a:srgbClr val="edede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6368400" y="4436640"/>
                    <a:ext cx="1580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4">
                        <a:moveTo>
                          <a:pt x="0" y="23"/>
                        </a:moveTo>
                        <a:lnTo>
                          <a:pt x="20" y="0"/>
                        </a:lnTo>
                        <a:lnTo>
                          <a:pt x="161" y="0"/>
                        </a:lnTo>
                        <a:lnTo>
                          <a:pt x="181" y="23"/>
                        </a:lnTo>
                        <a:lnTo>
                          <a:pt x="0" y="23"/>
                        </a:lnTo>
                      </a:path>
                    </a:pathLst>
                  </a:custGeom>
                  <a:solidFill>
                    <a:srgbClr val="edede7"/>
                  </a:solidFill>
                  <a:ln cap="rnd" w="12600">
                    <a:solidFill>
                      <a:srgbClr val="62624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6369840" y="4460400"/>
                    <a:ext cx="154800" cy="150480"/>
                  </a:xfrm>
                  <a:prstGeom prst="rect">
                    <a:avLst/>
                  </a:prstGeom>
                  <a:solidFill>
                    <a:srgbClr val="dbdbce"/>
                  </a:solidFill>
                  <a:ln w="12600">
                    <a:solidFill>
                      <a:srgbClr val="7a7a5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6337800" y="4624920"/>
                    <a:ext cx="218520" cy="64440"/>
                  </a:xfrm>
                  <a:prstGeom prst="rect">
                    <a:avLst/>
                  </a:prstGeom>
                  <a:solidFill>
                    <a:srgbClr val="dbdbce"/>
                  </a:solidFill>
                  <a:ln w="12600">
                    <a:solidFill>
                      <a:srgbClr val="7a7a5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6383880" y="4478760"/>
                    <a:ext cx="127080" cy="11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62624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>
                    <a:off x="6490080" y="4647960"/>
                    <a:ext cx="50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6329160" y="4689360"/>
                    <a:ext cx="23688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34">
                        <a:moveTo>
                          <a:pt x="0" y="33"/>
                        </a:moveTo>
                        <a:lnTo>
                          <a:pt x="29" y="0"/>
                        </a:lnTo>
                        <a:lnTo>
                          <a:pt x="242" y="0"/>
                        </a:lnTo>
                        <a:lnTo>
                          <a:pt x="271" y="33"/>
                        </a:lnTo>
                        <a:lnTo>
                          <a:pt x="0" y="33"/>
                        </a:lnTo>
                      </a:path>
                    </a:pathLst>
                  </a:custGeom>
                  <a:solidFill>
                    <a:srgbClr val="edede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6328440" y="4691160"/>
                    <a:ext cx="2376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4">
                        <a:moveTo>
                          <a:pt x="0" y="33"/>
                        </a:moveTo>
                        <a:lnTo>
                          <a:pt x="29" y="0"/>
                        </a:lnTo>
                        <a:lnTo>
                          <a:pt x="243" y="0"/>
                        </a:lnTo>
                        <a:lnTo>
                          <a:pt x="272" y="33"/>
                        </a:lnTo>
                        <a:lnTo>
                          <a:pt x="0" y="33"/>
                        </a:lnTo>
                      </a:path>
                    </a:pathLst>
                  </a:custGeom>
                  <a:solidFill>
                    <a:srgbClr val="edede7"/>
                  </a:solidFill>
                  <a:ln cap="rnd" w="12600">
                    <a:solidFill>
                      <a:srgbClr val="62624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6331680" y="4722480"/>
                    <a:ext cx="233280" cy="12600"/>
                  </a:xfrm>
                  <a:prstGeom prst="rect">
                    <a:avLst/>
                  </a:prstGeom>
                  <a:solidFill>
                    <a:srgbClr val="dbdbce"/>
                  </a:solidFill>
                  <a:ln w="12600">
                    <a:solidFill>
                      <a:srgbClr val="7a7a5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04" name=""/>
            <p:cNvSpPr/>
            <p:nvPr/>
          </p:nvSpPr>
          <p:spPr>
            <a:xfrm>
              <a:off x="5327640" y="4613400"/>
              <a:ext cx="959040" cy="0"/>
            </a:xfrm>
            <a:prstGeom prst="line">
              <a:avLst/>
            </a:prstGeom>
            <a:ln w="507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7640" y="5718240"/>
              <a:ext cx="959040" cy="0"/>
            </a:xfrm>
            <a:prstGeom prst="line">
              <a:avLst/>
            </a:prstGeom>
            <a:ln w="507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13720" y="5981760"/>
              <a:ext cx="1091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Real </a:t>
              </a:r>
              <a:r>
                <a:rPr b="1" lang="es-MX" sz="1400" spc="-1" strike="noStrike">
                  <a:solidFill>
                    <a:srgbClr val="ffffff"/>
                  </a:solidFill>
                  <a:latin typeface="Times New Roman"/>
                </a:rPr>
                <a:t>Sec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913720" y="4834080"/>
              <a:ext cx="1091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Real Sec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Dividiendo el secre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4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ara dividir éste en D</a:t>
            </a:r>
            <a:r>
              <a:rPr b="0" lang="es-E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partes escogemos un polinomio de grado k-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287360" y="2590920"/>
            <a:ext cx="4399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(x) = a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a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 + … +  a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k-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k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47920" y="3429000"/>
            <a:ext cx="5943600" cy="28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donde a</a:t>
            </a:r>
            <a:r>
              <a:rPr b="0" lang="es-MX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0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D y se evalu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es-MX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q(1)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es-MX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 q(i)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es-MX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q(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ecuperando el secre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ado cualquier subconjuto de k partes de estos valores D</a:t>
            </a:r>
            <a:r>
              <a:rPr b="0" lang="es-MX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ncontrar los coeficientes de q(x) por interpolació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valuar D=q(0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 conocer solo k-1 partes no permite calcular 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Ejemplo Shami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a un esquema (k,n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 k = 2 y n = 3, es decir (2,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mplica que se requieren dos partes de las tres en las cuales se dividió la información para recuperar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 elige un polinomio de grado k-1, es decir, de grado uno o line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213000" y="5105520"/>
            <a:ext cx="25304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(x) = a</a:t>
            </a:r>
            <a:r>
              <a:rPr b="0" lang="es-MX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a</a:t>
            </a:r>
            <a:r>
              <a:rPr b="0" lang="es-MX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Calculando los tres secre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ados los secretos compartido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lang="fr-FR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= q(1) =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lang="fr-FR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= q(2) =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lang="fr-FR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= q(3) =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abiendo que para calcular  la información original necesitam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 = q(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imes New Roman"/>
              </a:rPr>
              <a:t>¿Por qué esos valores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 valores D</a:t>
            </a:r>
            <a:r>
              <a:rPr b="0" lang="es-MX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=2, D</a:t>
            </a:r>
            <a:r>
              <a:rPr b="0" lang="es-MX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=3, D</a:t>
            </a:r>
            <a:r>
              <a:rPr b="0" lang="es-MX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=4 resultaron de calcular  y = x + 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decir, q(x) = x + 1, del cual resultan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ta función es solo un ejemplo, pudo haber sido cualquier otra pero de orde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304920" y="4118040"/>
          <a:ext cx="8381880" cy="273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118040"/>
                    <a:ext cx="838188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Los secretos comparti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 secretos compartidos serán: q</a:t>
            </a:r>
            <a:r>
              <a:rPr b="0" lang="es-MX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1)=2, q</a:t>
            </a:r>
            <a:r>
              <a:rPr b="0" lang="es-MX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2)=3, q</a:t>
            </a:r>
            <a:r>
              <a:rPr b="0" lang="es-MX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3)=4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tos son puntos en el espacio bidimens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ada uno no proporciona información de los otros pun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ampoco podemos calcular el término q</a:t>
            </a:r>
            <a:r>
              <a:rPr b="0" lang="es-MX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0)=D (el secreto original) conociendo solo uno de estos dos puntos. 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imes New Roman"/>
              </a:rPr>
              <a:t>Recuperando el secret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omamos dos secretos: q</a:t>
            </a:r>
            <a:r>
              <a:rPr b="0" lang="es-MX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1)=2 y q</a:t>
            </a:r>
            <a:r>
              <a:rPr b="0" lang="es-MX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3)=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 plantean las ecuacio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abemos q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stituyendo ec.1 y ec.2 en ec. 3 tenem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819520" y="2209680"/>
            <a:ext cx="43596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fr-FR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 = 2             ---- ec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fr-FR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 = 4             ---- ec.2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87560" y="5105520"/>
            <a:ext cx="428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=   a +  b          ---- ec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= 3a +  b          ---- ec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10160" y="3657600"/>
            <a:ext cx="475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(x) = ax + b          ---- ec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181040" y="4191120"/>
            <a:ext cx="46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cuación característica de grado uno, rect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Continuando con las operac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stando ec.5 de ec.4 tenem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2 = -a -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4 = 3a +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---------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 = 2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imes New Roman"/>
              </a:rPr>
              <a:t>Continuando con las operacion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sultan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stituyendo ec.6 en ec.4 tenem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sultan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dos los valores de a=1 y b=1 tenemos la ecuación de la rect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118680" y="1676520"/>
            <a:ext cx="33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= 1           --- ec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1560" y="266688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= 1 +  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120120" y="373392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= 1 ------ ec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0840" y="525780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(x)= 1 +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Terminan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ara  recuperar el secreto, o información original tenemos, calculamos q</a:t>
            </a:r>
            <a:r>
              <a:rPr b="0" lang="es-MX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0) = 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información original era 1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partir de los secretos compartidos q</a:t>
            </a:r>
            <a:r>
              <a:rPr b="0" lang="es-MX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 q</a:t>
            </a:r>
            <a:r>
              <a:rPr b="0" lang="es-MX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los puntos en el espacio bidimensional (1,2) y (3,4), se puede obtener el secreto inic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584520" y="2514600"/>
            <a:ext cx="26283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es-MX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0) = 1  + (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es-MX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0)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Haciendo cuentas 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714320"/>
            <a:ext cx="769608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mputación electrónica 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50 años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des sólo tienen 30 años de vida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guridad 23 años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ternet 15 años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Web 6 años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tranets 3 año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xtranets 2 año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876920" y="3505320"/>
            <a:ext cx="3657600" cy="23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¿Seguridad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imes New Roman"/>
              </a:rPr>
              <a:t>Aplicaciones Secretos Compartid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esquemas de secretos compartidos surgen por la necesidad de inventar una técnica  que no dependa de una llave para proteger las propias llaves criptográf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Teoría de Secretos Compartidos ha sido ampliamente estudiada por la criptografía y por la computación distribuid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nto Adi Shamir como Blakley establecen que esta teoría puede ser utilizada para brindar seguridad a las llaves criptográf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Otro tipo de aplic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n embargo, puede servir para proporcionar  confidencialidad, integridad y alta disponibilidad, bajo ciertos parámetros y en un ambiente distribuido, a cualquier tipo de informac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o basado en el principio del aislamiento d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Una propues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rona, Bruschi y R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 Arona, D. Bruschi, E. Rosti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“Adding Availability to Log Services of Untrusted Machines”.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partamento di Scienze dell’ Informazione Universitá degli Studi de Mil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La propuesta de Arona Bruschi y Rost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rona, Bruschi y Rosti proponen un esquema  para aumentar la disponibilidad de las bitácoras de los sistema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 basan en la Teoría de Secretos Compartidos de Rabin utilizando el Algoritmo de Dispersión de Inform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ponen un mejora nombrado Algoritmo acelerado de Dispersión de Inform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Desventajas propues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 establecen un esquema de confidencialidad para los sistemas en los cuales se distribuye la infor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olo sugieren que, garantizada la disponi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gregar confidencialidad,  integridad y autenticidad a la información es fácil a través de técnicas criptográ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Nuestra propues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tilizar la teoría de Secretos Compartidos propuesta por Sham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quiere mayor almacenamiento que la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propuesta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de Rabin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y Black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ada una de las partes no proporciona información alguna de las demás y tampoco permite calcular la información origin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33cc"/>
                </a:solidFill>
                <a:latin typeface="Arial"/>
                <a:ea typeface="Times New Roman"/>
              </a:rPr>
              <a:t>El objetivo es contar con un esquema de almacenamiento seguro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Esquema de la propues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7212960" y="1447920"/>
            <a:ext cx="1134720" cy="1106640"/>
            <a:chOff x="7212960" y="1447920"/>
            <a:chExt cx="1134720" cy="1106640"/>
          </a:xfrm>
        </p:grpSpPr>
        <p:sp>
          <p:nvSpPr>
            <p:cNvPr id="682" name=""/>
            <p:cNvSpPr/>
            <p:nvPr/>
          </p:nvSpPr>
          <p:spPr>
            <a:xfrm>
              <a:off x="7212960" y="2217240"/>
              <a:ext cx="113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Times New Roman"/>
                </a:rPr>
                <a:t>servidor R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83" name="" descr=""/>
            <p:cNvPicPr/>
            <p:nvPr/>
          </p:nvPicPr>
          <p:blipFill>
            <a:blip r:embed="rId1"/>
            <a:stretch/>
          </p:blipFill>
          <p:spPr>
            <a:xfrm>
              <a:off x="7565760" y="1447920"/>
              <a:ext cx="572040" cy="77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4" name=""/>
          <p:cNvGrpSpPr/>
          <p:nvPr/>
        </p:nvGrpSpPr>
        <p:grpSpPr>
          <a:xfrm>
            <a:off x="7212960" y="2819520"/>
            <a:ext cx="1134720" cy="1106640"/>
            <a:chOff x="7212960" y="2819520"/>
            <a:chExt cx="1134720" cy="1106640"/>
          </a:xfrm>
        </p:grpSpPr>
        <p:sp>
          <p:nvSpPr>
            <p:cNvPr id="685" name=""/>
            <p:cNvSpPr/>
            <p:nvPr/>
          </p:nvSpPr>
          <p:spPr>
            <a:xfrm>
              <a:off x="7212960" y="3588840"/>
              <a:ext cx="113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Times New Roman"/>
                </a:rPr>
                <a:t>servidor R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86" name="" descr=""/>
            <p:cNvPicPr/>
            <p:nvPr/>
          </p:nvPicPr>
          <p:blipFill>
            <a:blip r:embed="rId2"/>
            <a:stretch/>
          </p:blipFill>
          <p:spPr>
            <a:xfrm>
              <a:off x="7565760" y="2819520"/>
              <a:ext cx="572040" cy="77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7" name=""/>
          <p:cNvGrpSpPr/>
          <p:nvPr/>
        </p:nvGrpSpPr>
        <p:grpSpPr>
          <a:xfrm>
            <a:off x="7212960" y="4114800"/>
            <a:ext cx="1134720" cy="1107000"/>
            <a:chOff x="7212960" y="4114800"/>
            <a:chExt cx="1134720" cy="1107000"/>
          </a:xfrm>
        </p:grpSpPr>
        <p:sp>
          <p:nvSpPr>
            <p:cNvPr id="688" name=""/>
            <p:cNvSpPr/>
            <p:nvPr/>
          </p:nvSpPr>
          <p:spPr>
            <a:xfrm>
              <a:off x="7212960" y="4884480"/>
              <a:ext cx="113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Times New Roman"/>
                </a:rPr>
                <a:t>servidor R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89" name="" descr=""/>
            <p:cNvPicPr/>
            <p:nvPr/>
          </p:nvPicPr>
          <p:blipFill>
            <a:blip r:embed="rId3"/>
            <a:stretch/>
          </p:blipFill>
          <p:spPr>
            <a:xfrm>
              <a:off x="7565760" y="4114800"/>
              <a:ext cx="572040" cy="77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0" name=""/>
          <p:cNvGrpSpPr/>
          <p:nvPr/>
        </p:nvGrpSpPr>
        <p:grpSpPr>
          <a:xfrm>
            <a:off x="457200" y="2286000"/>
            <a:ext cx="2513880" cy="1903680"/>
            <a:chOff x="457200" y="2286000"/>
            <a:chExt cx="2513880" cy="1903680"/>
          </a:xfrm>
        </p:grpSpPr>
        <p:grpSp>
          <p:nvGrpSpPr>
            <p:cNvPr id="691" name=""/>
            <p:cNvGrpSpPr/>
            <p:nvPr/>
          </p:nvGrpSpPr>
          <p:grpSpPr>
            <a:xfrm>
              <a:off x="457200" y="2286000"/>
              <a:ext cx="2513880" cy="1903680"/>
              <a:chOff x="457200" y="2286000"/>
              <a:chExt cx="2513880" cy="1903680"/>
            </a:xfrm>
          </p:grpSpPr>
          <p:sp>
            <p:nvSpPr>
              <p:cNvPr id="692" name=""/>
              <p:cNvSpPr/>
              <p:nvPr/>
            </p:nvSpPr>
            <p:spPr>
              <a:xfrm>
                <a:off x="457200" y="2286000"/>
                <a:ext cx="2513880" cy="1903680"/>
              </a:xfrm>
              <a:custGeom>
                <a:avLst/>
                <a:gdLst/>
                <a:ahLst/>
                <a:rect l="l" t="t" r="r" b="b"/>
                <a:pathLst>
                  <a:path w="577" h="385">
                    <a:moveTo>
                      <a:pt x="52" y="128"/>
                    </a:moveTo>
                    <a:lnTo>
                      <a:pt x="41" y="130"/>
                    </a:lnTo>
                    <a:lnTo>
                      <a:pt x="31" y="133"/>
                    </a:lnTo>
                    <a:lnTo>
                      <a:pt x="22" y="138"/>
                    </a:lnTo>
                    <a:lnTo>
                      <a:pt x="15" y="145"/>
                    </a:lnTo>
                    <a:lnTo>
                      <a:pt x="9" y="152"/>
                    </a:lnTo>
                    <a:lnTo>
                      <a:pt x="4" y="161"/>
                    </a:lnTo>
                    <a:lnTo>
                      <a:pt x="1" y="170"/>
                    </a:lnTo>
                    <a:lnTo>
                      <a:pt x="0" y="180"/>
                    </a:lnTo>
                    <a:lnTo>
                      <a:pt x="1" y="187"/>
                    </a:lnTo>
                    <a:lnTo>
                      <a:pt x="2" y="194"/>
                    </a:lnTo>
                    <a:lnTo>
                      <a:pt x="8" y="206"/>
                    </a:lnTo>
                    <a:lnTo>
                      <a:pt x="17" y="217"/>
                    </a:lnTo>
                    <a:lnTo>
                      <a:pt x="29" y="226"/>
                    </a:lnTo>
                    <a:lnTo>
                      <a:pt x="28" y="225"/>
                    </a:lnTo>
                    <a:lnTo>
                      <a:pt x="21" y="233"/>
                    </a:lnTo>
                    <a:lnTo>
                      <a:pt x="17" y="242"/>
                    </a:lnTo>
                    <a:lnTo>
                      <a:pt x="14" y="251"/>
                    </a:lnTo>
                    <a:lnTo>
                      <a:pt x="13" y="261"/>
                    </a:lnTo>
                    <a:lnTo>
                      <a:pt x="14" y="272"/>
                    </a:lnTo>
                    <a:lnTo>
                      <a:pt x="18" y="282"/>
                    </a:lnTo>
                    <a:lnTo>
                      <a:pt x="23" y="291"/>
                    </a:lnTo>
                    <a:lnTo>
                      <a:pt x="30" y="298"/>
                    </a:lnTo>
                    <a:lnTo>
                      <a:pt x="39" y="305"/>
                    </a:lnTo>
                    <a:lnTo>
                      <a:pt x="48" y="310"/>
                    </a:lnTo>
                    <a:lnTo>
                      <a:pt x="59" y="313"/>
                    </a:lnTo>
                    <a:lnTo>
                      <a:pt x="71" y="314"/>
                    </a:lnTo>
                    <a:lnTo>
                      <a:pt x="74" y="314"/>
                    </a:lnTo>
                    <a:lnTo>
                      <a:pt x="78" y="313"/>
                    </a:lnTo>
                    <a:lnTo>
                      <a:pt x="77" y="314"/>
                    </a:lnTo>
                    <a:lnTo>
                      <a:pt x="85" y="324"/>
                    </a:lnTo>
                    <a:lnTo>
                      <a:pt x="94" y="334"/>
                    </a:lnTo>
                    <a:lnTo>
                      <a:pt x="104" y="342"/>
                    </a:lnTo>
                    <a:lnTo>
                      <a:pt x="115" y="348"/>
                    </a:lnTo>
                    <a:lnTo>
                      <a:pt x="127" y="354"/>
                    </a:lnTo>
                    <a:lnTo>
                      <a:pt x="140" y="358"/>
                    </a:lnTo>
                    <a:lnTo>
                      <a:pt x="153" y="360"/>
                    </a:lnTo>
                    <a:lnTo>
                      <a:pt x="167" y="361"/>
                    </a:lnTo>
                    <a:lnTo>
                      <a:pt x="181" y="360"/>
                    </a:lnTo>
                    <a:lnTo>
                      <a:pt x="194" y="357"/>
                    </a:lnTo>
                    <a:lnTo>
                      <a:pt x="208" y="353"/>
                    </a:lnTo>
                    <a:lnTo>
                      <a:pt x="220" y="347"/>
                    </a:lnTo>
                    <a:lnTo>
                      <a:pt x="219" y="348"/>
                    </a:lnTo>
                    <a:lnTo>
                      <a:pt x="226" y="356"/>
                    </a:lnTo>
                    <a:lnTo>
                      <a:pt x="234" y="363"/>
                    </a:lnTo>
                    <a:lnTo>
                      <a:pt x="242" y="369"/>
                    </a:lnTo>
                    <a:lnTo>
                      <a:pt x="252" y="374"/>
                    </a:lnTo>
                    <a:lnTo>
                      <a:pt x="262" y="378"/>
                    </a:lnTo>
                    <a:lnTo>
                      <a:pt x="272" y="382"/>
                    </a:lnTo>
                    <a:lnTo>
                      <a:pt x="283" y="383"/>
                    </a:lnTo>
                    <a:lnTo>
                      <a:pt x="294" y="384"/>
                    </a:lnTo>
                    <a:lnTo>
                      <a:pt x="309" y="383"/>
                    </a:lnTo>
                    <a:lnTo>
                      <a:pt x="323" y="380"/>
                    </a:lnTo>
                    <a:lnTo>
                      <a:pt x="336" y="375"/>
                    </a:lnTo>
                    <a:lnTo>
                      <a:pt x="348" y="368"/>
                    </a:lnTo>
                    <a:lnTo>
                      <a:pt x="359" y="359"/>
                    </a:lnTo>
                    <a:lnTo>
                      <a:pt x="368" y="349"/>
                    </a:lnTo>
                    <a:lnTo>
                      <a:pt x="375" y="338"/>
                    </a:lnTo>
                    <a:lnTo>
                      <a:pt x="380" y="326"/>
                    </a:lnTo>
                    <a:lnTo>
                      <a:pt x="381" y="326"/>
                    </a:lnTo>
                    <a:lnTo>
                      <a:pt x="390" y="331"/>
                    </a:lnTo>
                    <a:lnTo>
                      <a:pt x="400" y="334"/>
                    </a:lnTo>
                    <a:lnTo>
                      <a:pt x="411" y="336"/>
                    </a:lnTo>
                    <a:lnTo>
                      <a:pt x="421" y="337"/>
                    </a:lnTo>
                    <a:lnTo>
                      <a:pt x="437" y="336"/>
                    </a:lnTo>
                    <a:lnTo>
                      <a:pt x="451" y="332"/>
                    </a:lnTo>
                    <a:lnTo>
                      <a:pt x="464" y="325"/>
                    </a:lnTo>
                    <a:lnTo>
                      <a:pt x="476" y="317"/>
                    </a:lnTo>
                    <a:lnTo>
                      <a:pt x="485" y="306"/>
                    </a:lnTo>
                    <a:lnTo>
                      <a:pt x="492" y="294"/>
                    </a:lnTo>
                    <a:lnTo>
                      <a:pt x="497" y="281"/>
                    </a:lnTo>
                    <a:lnTo>
                      <a:pt x="499" y="267"/>
                    </a:lnTo>
                    <a:lnTo>
                      <a:pt x="498" y="267"/>
                    </a:lnTo>
                    <a:lnTo>
                      <a:pt x="514" y="264"/>
                    </a:lnTo>
                    <a:lnTo>
                      <a:pt x="529" y="258"/>
                    </a:lnTo>
                    <a:lnTo>
                      <a:pt x="542" y="250"/>
                    </a:lnTo>
                    <a:lnTo>
                      <a:pt x="554" y="240"/>
                    </a:lnTo>
                    <a:lnTo>
                      <a:pt x="563" y="228"/>
                    </a:lnTo>
                    <a:lnTo>
                      <a:pt x="570" y="215"/>
                    </a:lnTo>
                    <a:lnTo>
                      <a:pt x="575" y="201"/>
                    </a:lnTo>
                    <a:lnTo>
                      <a:pt x="576" y="186"/>
                    </a:lnTo>
                    <a:lnTo>
                      <a:pt x="575" y="173"/>
                    </a:lnTo>
                    <a:lnTo>
                      <a:pt x="571" y="160"/>
                    </a:lnTo>
                    <a:lnTo>
                      <a:pt x="565" y="148"/>
                    </a:lnTo>
                    <a:lnTo>
                      <a:pt x="557" y="136"/>
                    </a:lnTo>
                    <a:lnTo>
                      <a:pt x="557" y="136"/>
                    </a:lnTo>
                    <a:lnTo>
                      <a:pt x="562" y="124"/>
                    </a:lnTo>
                    <a:lnTo>
                      <a:pt x="563" y="111"/>
                    </a:lnTo>
                    <a:lnTo>
                      <a:pt x="562" y="100"/>
                    </a:lnTo>
                    <a:lnTo>
                      <a:pt x="559" y="90"/>
                    </a:lnTo>
                    <a:lnTo>
                      <a:pt x="554" y="80"/>
                    </a:lnTo>
                    <a:lnTo>
                      <a:pt x="548" y="72"/>
                    </a:lnTo>
                    <a:lnTo>
                      <a:pt x="540" y="64"/>
                    </a:lnTo>
                    <a:lnTo>
                      <a:pt x="531" y="57"/>
                    </a:lnTo>
                    <a:lnTo>
                      <a:pt x="521" y="52"/>
                    </a:lnTo>
                    <a:lnTo>
                      <a:pt x="510" y="48"/>
                    </a:lnTo>
                    <a:lnTo>
                      <a:pt x="511" y="48"/>
                    </a:lnTo>
                    <a:lnTo>
                      <a:pt x="508" y="38"/>
                    </a:lnTo>
                    <a:lnTo>
                      <a:pt x="503" y="29"/>
                    </a:lnTo>
                    <a:lnTo>
                      <a:pt x="496" y="21"/>
                    </a:lnTo>
                    <a:lnTo>
                      <a:pt x="488" y="14"/>
                    </a:lnTo>
                    <a:lnTo>
                      <a:pt x="479" y="8"/>
                    </a:lnTo>
                    <a:lnTo>
                      <a:pt x="469" y="4"/>
                    </a:lnTo>
                    <a:lnTo>
                      <a:pt x="458" y="1"/>
                    </a:lnTo>
                    <a:lnTo>
                      <a:pt x="447" y="0"/>
                    </a:lnTo>
                    <a:lnTo>
                      <a:pt x="433" y="1"/>
                    </a:lnTo>
                    <a:lnTo>
                      <a:pt x="420" y="6"/>
                    </a:lnTo>
                    <a:lnTo>
                      <a:pt x="408" y="12"/>
                    </a:lnTo>
                    <a:lnTo>
                      <a:pt x="397" y="21"/>
                    </a:lnTo>
                    <a:lnTo>
                      <a:pt x="398" y="21"/>
                    </a:lnTo>
                    <a:lnTo>
                      <a:pt x="389" y="12"/>
                    </a:lnTo>
                    <a:lnTo>
                      <a:pt x="377" y="6"/>
                    </a:lnTo>
                    <a:lnTo>
                      <a:pt x="364" y="1"/>
                    </a:lnTo>
                    <a:lnTo>
                      <a:pt x="351" y="0"/>
                    </a:lnTo>
                    <a:lnTo>
                      <a:pt x="343" y="1"/>
                    </a:lnTo>
                    <a:lnTo>
                      <a:pt x="335" y="2"/>
                    </a:lnTo>
                    <a:lnTo>
                      <a:pt x="321" y="8"/>
                    </a:lnTo>
                    <a:lnTo>
                      <a:pt x="308" y="17"/>
                    </a:lnTo>
                    <a:lnTo>
                      <a:pt x="299" y="29"/>
                    </a:lnTo>
                    <a:lnTo>
                      <a:pt x="299" y="30"/>
                    </a:lnTo>
                    <a:lnTo>
                      <a:pt x="288" y="22"/>
                    </a:lnTo>
                    <a:lnTo>
                      <a:pt x="276" y="17"/>
                    </a:lnTo>
                    <a:lnTo>
                      <a:pt x="263" y="13"/>
                    </a:lnTo>
                    <a:lnTo>
                      <a:pt x="250" y="12"/>
                    </a:lnTo>
                    <a:lnTo>
                      <a:pt x="240" y="13"/>
                    </a:lnTo>
                    <a:lnTo>
                      <a:pt x="230" y="14"/>
                    </a:lnTo>
                    <a:lnTo>
                      <a:pt x="221" y="17"/>
                    </a:lnTo>
                    <a:lnTo>
                      <a:pt x="213" y="21"/>
                    </a:lnTo>
                    <a:lnTo>
                      <a:pt x="198" y="32"/>
                    </a:lnTo>
                    <a:lnTo>
                      <a:pt x="192" y="39"/>
                    </a:lnTo>
                    <a:lnTo>
                      <a:pt x="187" y="46"/>
                    </a:lnTo>
                    <a:lnTo>
                      <a:pt x="187" y="46"/>
                    </a:lnTo>
                    <a:lnTo>
                      <a:pt x="176" y="41"/>
                    </a:lnTo>
                    <a:lnTo>
                      <a:pt x="165" y="38"/>
                    </a:lnTo>
                    <a:lnTo>
                      <a:pt x="153" y="36"/>
                    </a:lnTo>
                    <a:lnTo>
                      <a:pt x="141" y="35"/>
                    </a:lnTo>
                    <a:lnTo>
                      <a:pt x="123" y="37"/>
                    </a:lnTo>
                    <a:lnTo>
                      <a:pt x="106" y="42"/>
                    </a:lnTo>
                    <a:lnTo>
                      <a:pt x="91" y="49"/>
                    </a:lnTo>
                    <a:lnTo>
                      <a:pt x="77" y="59"/>
                    </a:lnTo>
                    <a:lnTo>
                      <a:pt x="66" y="71"/>
                    </a:lnTo>
                    <a:lnTo>
                      <a:pt x="58" y="85"/>
                    </a:lnTo>
                    <a:lnTo>
                      <a:pt x="53" y="101"/>
                    </a:lnTo>
                    <a:lnTo>
                      <a:pt x="51" y="117"/>
                    </a:lnTo>
                    <a:lnTo>
                      <a:pt x="51" y="122"/>
                    </a:lnTo>
                    <a:lnTo>
                      <a:pt x="52" y="12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82480" y="3403440"/>
                <a:ext cx="147960" cy="8388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0"/>
                    </a:moveTo>
                    <a:lnTo>
                      <a:pt x="7" y="6"/>
                    </a:lnTo>
                    <a:lnTo>
                      <a:pt x="14" y="11"/>
                    </a:lnTo>
                    <a:lnTo>
                      <a:pt x="29" y="16"/>
                    </a:lnTo>
                    <a:lnTo>
                      <a:pt x="31" y="16"/>
                    </a:lnTo>
                    <a:lnTo>
                      <a:pt x="33" y="1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95960" y="3819600"/>
                <a:ext cx="73800" cy="838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8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112120" y="3813840"/>
                <a:ext cx="73800" cy="896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8" y="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39360" y="3294360"/>
                <a:ext cx="195480" cy="316080"/>
              </a:xfrm>
              <a:custGeom>
                <a:avLst/>
                <a:gdLst/>
                <a:ahLst/>
                <a:rect l="l" t="t" r="r" b="b"/>
                <a:pathLst>
                  <a:path w="45" h="64">
                    <a:moveTo>
                      <a:pt x="44" y="63"/>
                    </a:moveTo>
                    <a:lnTo>
                      <a:pt x="44" y="63"/>
                    </a:lnTo>
                    <a:lnTo>
                      <a:pt x="43" y="53"/>
                    </a:lnTo>
                    <a:lnTo>
                      <a:pt x="41" y="43"/>
                    </a:lnTo>
                    <a:lnTo>
                      <a:pt x="37" y="34"/>
                    </a:lnTo>
                    <a:lnTo>
                      <a:pt x="32" y="26"/>
                    </a:lnTo>
                    <a:lnTo>
                      <a:pt x="26" y="18"/>
                    </a:lnTo>
                    <a:lnTo>
                      <a:pt x="18" y="11"/>
                    </a:lnTo>
                    <a:lnTo>
                      <a:pt x="1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801160" y="2957760"/>
                <a:ext cx="86760" cy="1242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4"/>
                    </a:moveTo>
                    <a:lnTo>
                      <a:pt x="6" y="19"/>
                    </a:lnTo>
                    <a:lnTo>
                      <a:pt x="11" y="13"/>
                    </a:lnTo>
                    <a:lnTo>
                      <a:pt x="16" y="7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683440" y="2522520"/>
                <a:ext cx="73800" cy="838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146680" y="2388960"/>
                <a:ext cx="73800" cy="838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7" y="8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737720" y="2429280"/>
                <a:ext cx="73800" cy="838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6" y="7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271160" y="2513520"/>
                <a:ext cx="77760" cy="828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7" y="16"/>
                    </a:moveTo>
                    <a:lnTo>
                      <a:pt x="9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83280" y="2918520"/>
                <a:ext cx="73800" cy="838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5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992880" y="2895480"/>
              <a:ext cx="142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3352680" y="2743200"/>
            <a:ext cx="91440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410080" y="2057400"/>
            <a:ext cx="1981440" cy="137160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34120" y="3429000"/>
            <a:ext cx="2133360" cy="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334120" y="3429000"/>
            <a:ext cx="1904760" cy="114300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4"/>
          <a:stretch/>
        </p:blipFill>
        <p:spPr>
          <a:xfrm>
            <a:off x="4648320" y="2895480"/>
            <a:ext cx="12189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Herramientas utilizad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ividiendo la información en secre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 usa el mecanismo de Sham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ecanismo de transferencia de la inform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Un mecanismo de encripció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Dividiendo la inform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oftware: secspl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oftware construido por Hal Fin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74076.1041@compuserve.c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oftware a disposición del público en gene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Dividiendo la inform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440" y="1714320"/>
            <a:ext cx="80010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primera etapa del programa es convertir la representación alfanumérica, del archivo de entrada, a su equivalente numérico ASCI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 genera un polinomio de grado k-1 y se obtienen los secretos comparti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os coeficientes se generan de forma aleato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l polinomio de mayor grado permitido es 2^1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 caso que se depase se generan 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36360" y="428400"/>
            <a:ext cx="718668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Algunos  Ata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098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ir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aballo de Troy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usanos (Wor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rapdo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tack over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p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ombas lóg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uerza bru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47960" y="1371600"/>
            <a:ext cx="38098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alsif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Usurpació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nif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poof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p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fi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geniería Soci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egación de serv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ecuperando el secre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oma cada uno de los secre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aliza una interpolación utilizando algoritmo de Lag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vierte cada uno de los elementos a código ASC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imes New Roman"/>
              </a:rPr>
              <a:t>Versiones secspli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rsion 1.0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ct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br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23, 199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rsion 1.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ct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br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24, 199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grega un generador de números pseudoaleatorios basado en IDEA e inicializado por un MD5 del archivo de entrada y la fecha del dí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rsion 1.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rz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31, 2000 Damien Miller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&lt;djm@mindrot.org&gt;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imina generador de números pseudoaleatoriaos basado en IDEA y utiliza el dispositivo /dev/randorm de Linux para generar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Transmisión segu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oy en día existen varias soluciones que permiten realizar una comunicación “segura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odas y cada unas de ellas con puntos a favor y en contra, y con características particulare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s más conocidas son: VPN’s, Kerberos,  PGP, SSL y SSH (Secure SHell)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ta última es una solución económica , eficiente y sencil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Características SS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fidencialidad, privacidad de la información vía cifrado fue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tegridad, garantiza que la información no haya sido modificada durante la transmi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utenticación, garantiza identidad tanto de fuente como de desti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utorización, control de acceso a cu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uneleo, el cual permite cifrar otras sesiones basadas en TCP/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imes New Roman"/>
              </a:rPr>
              <a:t>Algunas observaciones sobre SS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 importante establecer que SSH no es un verdadero shell</a:t>
            </a:r>
            <a:r>
              <a:rPr b="0" lang="es-MX" sz="2800" spc="-1" strike="noStrike" u="sng">
                <a:solidFill>
                  <a:srgbClr val="80008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n el sentido en que se entiende en Unix como C shell o Bourne sh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es un intérprete de comand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SH crea un túnel para que un shell pueda ser ejecutado en un sistema remo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 igual forma, no podemos decir que SSH sea una solución to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Esquema de la propuesta</a:t>
            </a:r>
            <a:br>
              <a:rPr sz="3600"/>
            </a:b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recuperando (opción 1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602720" y="1600200"/>
            <a:ext cx="1134720" cy="1107000"/>
            <a:chOff x="1602720" y="1600200"/>
            <a:chExt cx="1134720" cy="1107000"/>
          </a:xfrm>
        </p:grpSpPr>
        <p:sp>
          <p:nvSpPr>
            <p:cNvPr id="727" name=""/>
            <p:cNvSpPr/>
            <p:nvPr/>
          </p:nvSpPr>
          <p:spPr>
            <a:xfrm>
              <a:off x="1602720" y="2369880"/>
              <a:ext cx="113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Times New Roman"/>
                </a:rPr>
                <a:t>servidor R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8" name="" descr=""/>
            <p:cNvPicPr/>
            <p:nvPr/>
          </p:nvPicPr>
          <p:blipFill>
            <a:blip r:embed="rId1"/>
            <a:stretch/>
          </p:blipFill>
          <p:spPr>
            <a:xfrm>
              <a:off x="1955520" y="1600200"/>
              <a:ext cx="572040" cy="77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9" name=""/>
          <p:cNvGrpSpPr/>
          <p:nvPr/>
        </p:nvGrpSpPr>
        <p:grpSpPr>
          <a:xfrm>
            <a:off x="1602720" y="2971800"/>
            <a:ext cx="1134720" cy="1107000"/>
            <a:chOff x="1602720" y="2971800"/>
            <a:chExt cx="1134720" cy="1107000"/>
          </a:xfrm>
        </p:grpSpPr>
        <p:sp>
          <p:nvSpPr>
            <p:cNvPr id="730" name=""/>
            <p:cNvSpPr/>
            <p:nvPr/>
          </p:nvSpPr>
          <p:spPr>
            <a:xfrm>
              <a:off x="1602720" y="3741480"/>
              <a:ext cx="113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Times New Roman"/>
                </a:rPr>
                <a:t>servidor R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1" name="" descr=""/>
            <p:cNvPicPr/>
            <p:nvPr/>
          </p:nvPicPr>
          <p:blipFill>
            <a:blip r:embed="rId2"/>
            <a:stretch/>
          </p:blipFill>
          <p:spPr>
            <a:xfrm>
              <a:off x="1955520" y="2971800"/>
              <a:ext cx="572040" cy="77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"/>
          <p:cNvGrpSpPr/>
          <p:nvPr/>
        </p:nvGrpSpPr>
        <p:grpSpPr>
          <a:xfrm>
            <a:off x="1602720" y="4267080"/>
            <a:ext cx="1134720" cy="1107000"/>
            <a:chOff x="1602720" y="4267080"/>
            <a:chExt cx="1134720" cy="1107000"/>
          </a:xfrm>
        </p:grpSpPr>
        <p:sp>
          <p:nvSpPr>
            <p:cNvPr id="733" name=""/>
            <p:cNvSpPr/>
            <p:nvPr/>
          </p:nvSpPr>
          <p:spPr>
            <a:xfrm>
              <a:off x="1602720" y="5036760"/>
              <a:ext cx="113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Times New Roman"/>
                </a:rPr>
                <a:t>servidor R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4" name="" descr=""/>
            <p:cNvPicPr/>
            <p:nvPr/>
          </p:nvPicPr>
          <p:blipFill>
            <a:blip r:embed="rId3"/>
            <a:stretch/>
          </p:blipFill>
          <p:spPr>
            <a:xfrm>
              <a:off x="1955520" y="4267080"/>
              <a:ext cx="572040" cy="77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"/>
          <p:cNvSpPr/>
          <p:nvPr/>
        </p:nvSpPr>
        <p:spPr>
          <a:xfrm>
            <a:off x="2438280" y="2209680"/>
            <a:ext cx="2286000" cy="99072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514600" y="3429000"/>
            <a:ext cx="2133720" cy="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2743200" y="3733560"/>
            <a:ext cx="1752480" cy="99036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4"/>
          <a:stretch/>
        </p:blipFill>
        <p:spPr>
          <a:xfrm>
            <a:off x="4648320" y="2895480"/>
            <a:ext cx="12189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Esquema de la propuesta</a:t>
            </a:r>
            <a:br>
              <a:rPr sz="3600"/>
            </a:b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recuperando (opción 2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4955400" y="2590920"/>
            <a:ext cx="1134720" cy="1106640"/>
            <a:chOff x="4955400" y="2590920"/>
            <a:chExt cx="1134720" cy="1106640"/>
          </a:xfrm>
        </p:grpSpPr>
        <p:sp>
          <p:nvSpPr>
            <p:cNvPr id="741" name=""/>
            <p:cNvSpPr/>
            <p:nvPr/>
          </p:nvSpPr>
          <p:spPr>
            <a:xfrm>
              <a:off x="4955400" y="3360240"/>
              <a:ext cx="113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Times New Roman"/>
                </a:rPr>
                <a:t>servidor R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42" name="" descr=""/>
            <p:cNvPicPr/>
            <p:nvPr/>
          </p:nvPicPr>
          <p:blipFill>
            <a:blip r:embed="rId1"/>
            <a:stretch/>
          </p:blipFill>
          <p:spPr>
            <a:xfrm>
              <a:off x="5308200" y="2590920"/>
              <a:ext cx="572040" cy="77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3" name=""/>
          <p:cNvGrpSpPr/>
          <p:nvPr/>
        </p:nvGrpSpPr>
        <p:grpSpPr>
          <a:xfrm>
            <a:off x="1831320" y="2209680"/>
            <a:ext cx="1134720" cy="1107000"/>
            <a:chOff x="1831320" y="2209680"/>
            <a:chExt cx="1134720" cy="1107000"/>
          </a:xfrm>
        </p:grpSpPr>
        <p:sp>
          <p:nvSpPr>
            <p:cNvPr id="744" name=""/>
            <p:cNvSpPr/>
            <p:nvPr/>
          </p:nvSpPr>
          <p:spPr>
            <a:xfrm>
              <a:off x="1831320" y="2979360"/>
              <a:ext cx="113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Times New Roman"/>
                </a:rPr>
                <a:t>servidor R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45" name="" descr=""/>
            <p:cNvPicPr/>
            <p:nvPr/>
          </p:nvPicPr>
          <p:blipFill>
            <a:blip r:embed="rId2"/>
            <a:stretch/>
          </p:blipFill>
          <p:spPr>
            <a:xfrm>
              <a:off x="2184120" y="2209680"/>
              <a:ext cx="572040" cy="77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6" name=""/>
          <p:cNvGrpSpPr/>
          <p:nvPr/>
        </p:nvGrpSpPr>
        <p:grpSpPr>
          <a:xfrm>
            <a:off x="1831320" y="3505320"/>
            <a:ext cx="1134720" cy="1106640"/>
            <a:chOff x="1831320" y="3505320"/>
            <a:chExt cx="1134720" cy="1106640"/>
          </a:xfrm>
        </p:grpSpPr>
        <p:sp>
          <p:nvSpPr>
            <p:cNvPr id="747" name=""/>
            <p:cNvSpPr/>
            <p:nvPr/>
          </p:nvSpPr>
          <p:spPr>
            <a:xfrm>
              <a:off x="1831320" y="4274640"/>
              <a:ext cx="113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Times New Roman"/>
                </a:rPr>
                <a:t>servidor R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48" name="" descr=""/>
            <p:cNvPicPr/>
            <p:nvPr/>
          </p:nvPicPr>
          <p:blipFill>
            <a:blip r:embed="rId3"/>
            <a:stretch/>
          </p:blipFill>
          <p:spPr>
            <a:xfrm>
              <a:off x="2184120" y="3505320"/>
              <a:ext cx="572040" cy="77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9" name=""/>
          <p:cNvSpPr/>
          <p:nvPr/>
        </p:nvSpPr>
        <p:spPr>
          <a:xfrm>
            <a:off x="2895480" y="2590920"/>
            <a:ext cx="1828800" cy="22860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2971800" y="3124080"/>
            <a:ext cx="1752480" cy="99072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 presenta un enfoque para asegurar la confidencialidad, integridad y disponibilidad de bitaco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Basado en el esquema de secretos compartido se Sham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l esquema de secretos compartidos de Shamir puede utilizarse en aplicaciones diferentes para la que originalmente fue diseñ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¿Y qué es la seguridad computacional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guridad Comput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junto de políticas y mecanismos que nos permiten garantizar la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"/>
              </a:rPr>
              <a:t>confidencialidad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, la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"/>
              </a:rPr>
              <a:t>integridad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y la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"/>
              </a:rPr>
              <a:t>disponibilidad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e los recursos de un sistema. 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514600" y="2057400"/>
            <a:ext cx="4419720" cy="28954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La seguridad computa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434760" y="1828800"/>
            <a:ext cx="2550600" cy="52056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fidencia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82640" y="4635360"/>
            <a:ext cx="1623960" cy="520560"/>
          </a:xfrm>
          <a:prstGeom prst="rect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tegr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47920" y="4635360"/>
            <a:ext cx="2219760" cy="520560"/>
          </a:xfrm>
          <a:prstGeom prst="rect">
            <a:avLst/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isponi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imes New Roman"/>
              </a:rPr>
              <a:t>Algunos mecanismos de segurida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Herramientas de preven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firew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utenticación (biometricos, tjtas, intelig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trol de acce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roxies, fil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riptologí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ientización de los usu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Herramientas de monitor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DS: Intruction Detectio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onitoreo del sistema (sniffer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5943600" y="4770360"/>
            <a:ext cx="3200400" cy="2087640"/>
          </a:xfrm>
          <a:prstGeom prst="rect">
            <a:avLst/>
          </a:prstGeom>
          <a:ln w="0">
            <a:noFill/>
          </a:ln>
        </p:spPr>
      </p:pic>
      <p:pic>
        <p:nvPicPr>
          <p:cNvPr id="424" name="credencial" descr=""/>
          <p:cNvPicPr/>
          <p:nvPr/>
        </p:nvPicPr>
        <p:blipFill>
          <a:blip r:embed="rId2"/>
          <a:stretch/>
        </p:blipFill>
        <p:spPr>
          <a:xfrm>
            <a:off x="7162920" y="3352680"/>
            <a:ext cx="1981080" cy="12798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7783560" y="1371600"/>
            <a:ext cx="136044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Bitácor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uchos servicios permiten llevar una bitacora de sus activi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 posible configurar los sistemas de tal forma que los event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 escriban en uno o en distintos archivo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 envien a través de la red a otra computador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 transmitan a algún diposi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21:01:09Z</dcterms:created>
  <dc:creator>Roberto Gómez Cárdenas</dc:creator>
  <dc:description/>
  <dc:language>en-US</dc:language>
  <cp:lastModifiedBy>Roberto Gómez Cárdenas</cp:lastModifiedBy>
  <dcterms:modified xsi:type="dcterms:W3CDTF">2001-09-12T01:13:58Z</dcterms:modified>
  <cp:revision>24</cp:revision>
  <dc:subject/>
  <dc:title>Integridad de Bitácoras usando Secretos Compartidos</dc:title>
</cp:coreProperties>
</file>